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4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5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10.xml.rels" ContentType="application/vnd.openxmlformats-package.relationships+xml"/>
  <Override PartName="/ppt/notesSlides/notesSlide123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55.pct" ContentType="image/x-pict"/>
  <Override PartName="/ppt/media/image19.png" ContentType="image/png"/>
  <Override PartName="/ppt/media/image28.jpeg" ContentType="image/jpeg"/>
  <Override PartName="/ppt/media/image51.jpeg" ContentType="image/jpeg"/>
  <Override PartName="/ppt/media/image20.png" ContentType="image/png"/>
  <Override PartName="/ppt/media/image36.jpeg" ContentType="image/jpeg"/>
  <Override PartName="/ppt/media/image57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49.pct" ContentType="image/x-pict"/>
  <Override PartName="/ppt/media/image14.png" ContentType="image/png"/>
  <Override PartName="/ppt/media/image48.pct" ContentType="image/x-pict"/>
  <Override PartName="/ppt/media/image1.pct" ContentType="image/x-pict"/>
  <Override PartName="/ppt/media/image4.png" ContentType="image/png"/>
  <Override PartName="/ppt/media/image31.pct" ContentType="image/x-pict"/>
  <Override PartName="/ppt/media/image27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4.jpeg" ContentType="image/jpeg"/>
  <Override PartName="/ppt/media/image38.jpeg" ContentType="image/jpeg"/>
  <Override PartName="/ppt/media/image40.jpeg" ContentType="image/jpeg"/>
  <Override PartName="/ppt/media/image44.jpeg" ContentType="image/jpeg"/>
  <Override PartName="/ppt/media/image42.png" ContentType="image/png"/>
  <Override PartName="/ppt/media/image43.png" ContentType="image/png"/>
  <Override PartName="/ppt/media/image12.png" ContentType="image/png"/>
  <Override PartName="/ppt/media/image46.pct" ContentType="image/x-pict"/>
  <Override PartName="/ppt/media/image11.png" ContentType="image/png"/>
  <Override PartName="/ppt/media/image45.jpeg" ContentType="image/jpeg"/>
  <Override PartName="/ppt/media/image41.jpeg" ContentType="image/jpeg"/>
  <Override PartName="/ppt/media/image50.jpeg" ContentType="image/jpeg"/>
  <Override PartName="/ppt/media/image56.png" ContentType="image/png"/>
  <Override PartName="/ppt/media/image13.png" ContentType="image/png"/>
  <Override PartName="/ppt/media/image54.jpeg" ContentType="image/jpeg"/>
  <Override PartName="/ppt/media/image47.pct" ContentType="image/x-pict"/>
  <Override PartName="/ppt/media/image8.png" ContentType="image/png"/>
  <Override PartName="/ppt/media/image3.png" ContentType="image/png"/>
  <Override PartName="/ppt/media/image30.pct" ContentType="image/x-pict"/>
  <Override PartName="/ppt/media/image33.png" ContentType="image/png"/>
  <Override PartName="/ppt/media/image53.jpeg" ContentType="image/jpeg"/>
  <Override PartName="/ppt/media/image7.pct" ContentType="image/x-pict"/>
  <Override PartName="/ppt/media/image37.pct" ContentType="image/x-pict"/>
  <Override PartName="/ppt/media/image9.png" ContentType="image/png"/>
  <Override PartName="/ppt/media/image6.pct" ContentType="image/x-pict"/>
  <Override PartName="/ppt/media/image39.png" ContentType="image/png"/>
  <Override PartName="/ppt/media/image5.png" ContentType="image/png"/>
  <Override PartName="/ppt/media/image52.jpeg" ContentType="image/jpeg"/>
  <Override PartName="/ppt/media/image29.jpeg" ContentType="image/jpeg"/>
  <Override PartName="/ppt/media/image35.jpeg" ContentType="image/jpeg"/>
  <Override PartName="/ppt/media/image1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03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2.xml.rels" ContentType="application/vnd.openxmlformats-package.relationships+xml"/>
  <Override PartName="/ppt/slides/_rels/slide25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69.xml.rels" ContentType="application/vnd.openxmlformats-package.relationships+xml"/>
  <Override PartName="/ppt/slides/_rels/slide5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149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52.xml.rels" ContentType="application/vnd.openxmlformats-package.relationships+xml"/>
  <Override PartName="/ppt/slides/_rels/slide40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29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2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100.xml.rels" ContentType="application/vnd.openxmlformats-package.relationships+xml"/>
  <Override PartName="/ppt/slides/_rels/slide23.xml.rels" ContentType="application/vnd.openxmlformats-package.relationships+xml"/>
  <Override PartName="/ppt/slides/_rels/slide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1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113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144.xml.rels" ContentType="application/vnd.openxmlformats-package.relationships+xml"/>
  <Override PartName="/ppt/slides/_rels/slide1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28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54.xml" ContentType="application/vnd.openxmlformats-officedocument.presentationml.slide+xml"/>
  <Override PartName="/ppt/slides/slide150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13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  <p:sldId id="390" r:id="rId139"/>
    <p:sldId id="391" r:id="rId140"/>
    <p:sldId id="392" r:id="rId141"/>
    <p:sldId id="393" r:id="rId142"/>
    <p:sldId id="394" r:id="rId143"/>
    <p:sldId id="395" r:id="rId144"/>
    <p:sldId id="396" r:id="rId145"/>
    <p:sldId id="397" r:id="rId146"/>
    <p:sldId id="398" r:id="rId147"/>
    <p:sldId id="399" r:id="rId148"/>
    <p:sldId id="400" r:id="rId149"/>
    <p:sldId id="401" r:id="rId150"/>
    <p:sldId id="402" r:id="rId151"/>
    <p:sldId id="403" r:id="rId152"/>
    <p:sldId id="404" r:id="rId153"/>
    <p:sldId id="405" r:id="rId154"/>
    <p:sldId id="406" r:id="rId155"/>
    <p:sldId id="407" r:id="rId1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slide" Target="slides/slide135.xml"/><Relationship Id="rId140" Type="http://schemas.openxmlformats.org/officeDocument/2006/relationships/slide" Target="slides/slide136.xml"/><Relationship Id="rId141" Type="http://schemas.openxmlformats.org/officeDocument/2006/relationships/slide" Target="slides/slide137.xml"/><Relationship Id="rId142" Type="http://schemas.openxmlformats.org/officeDocument/2006/relationships/slide" Target="slides/slide138.xml"/><Relationship Id="rId143" Type="http://schemas.openxmlformats.org/officeDocument/2006/relationships/slide" Target="slides/slide139.xml"/><Relationship Id="rId144" Type="http://schemas.openxmlformats.org/officeDocument/2006/relationships/slide" Target="slides/slide140.xml"/><Relationship Id="rId145" Type="http://schemas.openxmlformats.org/officeDocument/2006/relationships/slide" Target="slides/slide141.xml"/><Relationship Id="rId146" Type="http://schemas.openxmlformats.org/officeDocument/2006/relationships/slide" Target="slides/slide142.xml"/><Relationship Id="rId147" Type="http://schemas.openxmlformats.org/officeDocument/2006/relationships/slide" Target="slides/slide143.xml"/><Relationship Id="rId148" Type="http://schemas.openxmlformats.org/officeDocument/2006/relationships/slide" Target="slides/slide144.xml"/><Relationship Id="rId149" Type="http://schemas.openxmlformats.org/officeDocument/2006/relationships/slide" Target="slides/slide145.xml"/><Relationship Id="rId150" Type="http://schemas.openxmlformats.org/officeDocument/2006/relationships/slide" Target="slides/slide146.xml"/><Relationship Id="rId151" Type="http://schemas.openxmlformats.org/officeDocument/2006/relationships/slide" Target="slides/slide147.xml"/><Relationship Id="rId152" Type="http://schemas.openxmlformats.org/officeDocument/2006/relationships/slide" Target="slides/slide148.xml"/><Relationship Id="rId153" Type="http://schemas.openxmlformats.org/officeDocument/2006/relationships/slide" Target="slides/slide149.xml"/><Relationship Id="rId154" Type="http://schemas.openxmlformats.org/officeDocument/2006/relationships/slide" Target="slides/slide150.xml"/><Relationship Id="rId155" Type="http://schemas.openxmlformats.org/officeDocument/2006/relationships/slide" Target="slides/slide151.xml"/><Relationship Id="rId156" Type="http://schemas.openxmlformats.org/officeDocument/2006/relationships/slide" Target="slides/slide152.xml"/><Relationship Id="rId1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0B1D5-37A6-4A8C-9421-7379CFD0A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AV set defines a phenotypic character.  By combining PCs we can build up a description that defines a complex syndrome or disease. As more is learned about a disease, PCs can be easily added or upd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AV set defines a phenotypic character.  By combining PCs we can build up a description that defines a complex syndrome or disease. As more is learned about a disease, PCs can be easily added or upd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AV set defines a phenotypic character.  By combining PCs we can build up a description that defines a complex syndrome or disease. As more is learned about a disease, PCs can be easily added or upd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AV set defines a phenotypic character.  By combining PCs we can build up a description that defines a complex syndrome or disease. As more is learned about a disease, PCs can be easily added or upd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AV set defines a phenotypic character.  By combining PCs we can build up a description that defines a complex syndrome or disease. As more is learned about a disease, PCs can be easily added or updated. Change all to 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AV set defines a phenotypic character.  By combining PCs we can build up a description that defines a complex syndrome or disease. As more is learned about a disease, PCs can be easily added or upd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AV set defines a phenotypic character.  By combining PCs we can build up a description that defines a complex syndrome or disease. As more is learned about a disease, PCs can be easily added or upd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box = single EAV set.  Without reading the words, you can see a pattern emerge; shh has some but not all phenotypic characteristics of holoprosencephaly, oep is better match.  This type of analysis can be done on a large scale computation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y can be tightly interwoven: somatic cell mut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he assay can be interwov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comparison is only possible insofar as we can have representations that are independent of assa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Lucida Grande"/>
              </a:rPr>
              <a:t>quality: </a:t>
            </a:r>
            <a:r>
              <a:rPr b="0" lang="en-US" sz="700" spc="-1" strike="noStrike">
                <a:solidFill>
                  <a:srgbClr val="000000"/>
                </a:solidFill>
                <a:latin typeface="Lucida Grande"/>
              </a:rPr>
              <a:t>Structure, relative size, pattern, structur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umab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Lucida Grande"/>
              </a:rPr>
              <a:t>Qualit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Lucida Grande"/>
              </a:rPr>
              <a:t>struct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Lucida Grande"/>
              </a:rPr>
              <a:t>relative siz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Lucida Grande"/>
              </a:rPr>
              <a:t>patter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Lucida Grande"/>
              </a:rPr>
              <a:t>struct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Lucida Grande"/>
              </a:rPr>
              <a:t>qual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Lucida Grande"/>
              </a:rPr>
              <a:t>relative numb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Lucida Grande"/>
              </a:rPr>
              <a:t>proc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Lucida Grande"/>
              </a:rPr>
              <a:t>behavioral 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return to the acidity example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ntity is not an 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 SQ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SAME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sting values: nicotine, peanut butter, alcoho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red and invisible? no tomat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possibility is to treat absent as “of negligible size” (accurate for wingless phenotype any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red and invisible? no tomat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possibility is to treat absent as “of negligible size” (accurate for wingless phenotype any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ssue vs population of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ssue vs population of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y is not an attribute (higher order predicat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don’t exist in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pylo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 between ontology an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odic table is a module structure, built on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ontologies are often built afresh for each new task; commonly introducing not only idiosyncrasies of format or logic, but also simplifications or distortions of their subject-matt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this problem application ontology development  shoud take place always against the background of a formally robust reference ontology fra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menopause part-of aging, aging part-of d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base searching is one of the important kinds of reasoning we want to en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port mechanis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ery languages and data directo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compression and just in time retrieval, cach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e object definitions or mappings between th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n synta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d descriptive langu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is, they commit themselves to conceiving ontology as a science, not as a hob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auth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an example of 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ther dichotomy (and anim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: ‘Observable’ [drysdale]. Observable introduces an extra layer of indirection and the unneccessary concept of obser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a dependent continuant is an entity too, th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D vs 4D. spatial regions; spatiotemporal reg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eria: do all the parts exist at the same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ter go-typ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ke example or a real example from Ch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tology development is inherently collaborative, and so it is important to understand the 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se studies from GO in the session on use-cases will illustrate both types of chan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030A-0366-4FE8-9323-1EBF60394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4F84-EB48-4F70-A00E-F69067A97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636E-C19D-46C3-AEF7-44ED85877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4CAD-B58C-41EB-9B83-E1A03D63D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E112C-749D-46E6-AE8D-701AF7827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0F443-42DB-4D13-8D62-5FAD6DA0F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385D9-D5D2-44BD-A8BD-53768A0C7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97986-9106-45AA-989A-B0F09A306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59075-CE68-4BF5-9990-7B57DBEDA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96996-061E-479E-B3C9-7E32515F4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F3197-CE87-4965-9BF6-B134E8C3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C445-4640-42E1-93A7-0E66B6FFC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F39F3-F142-47C0-A0C9-400AD901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C7BA6-8F93-44D7-B64E-E583EB32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9714E-7321-494F-AB90-6760E51C3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3DA93-BF68-4313-90A8-DF725CF5C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1F78D-A27E-4C77-B395-7BB71A398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A475-0FE9-415A-930D-43E58EAE7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1DF3-6EFD-4CC2-9043-71F035903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740E-D0E8-4D54-980C-F80DAE571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3F16-09EA-4F1C-9EA5-7FC1195FC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2F44-D0CD-47CA-8FA8-ED4CBE58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8305-C3C6-40DD-8850-DFFAF3A6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E664-5477-4275-932D-E8294D3C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660960" indent="-254160">
              <a:spcBef>
                <a:spcPts val="7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017000" indent="-203400">
              <a:spcBef>
                <a:spcPts val="799"/>
              </a:spcBef>
              <a:buClr>
                <a:srgbClr val="cc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24160" indent="-20340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830960" indent="-20340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9dcb9"/>
                </a:solidFill>
                <a:latin typeface="Century Gothic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9905F-4030-4203-8F64-488D63E27ED2}" type="slidenum">
              <a:rPr b="0" lang="en-US" sz="1400" spc="-1" strike="noStrike">
                <a:solidFill>
                  <a:srgbClr val="e9dcb9"/>
                </a:solidFill>
                <a:latin typeface="Century Gothic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9359-FD7B-49D2-B347-F66B081B7EFF}" type="slidenum">
              <a:rPr b="0" lang="en-US" sz="1400" spc="-1" strike="noStrike">
                <a:solidFill>
                  <a:srgbClr val="ffffff"/>
                </a:solidFill>
                <a:latin typeface="Century Gothic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832040" y="3560760"/>
            <a:ext cx="5484600" cy="1731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ccff66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47.pct"/><Relationship Id="rId2" Type="http://schemas.openxmlformats.org/officeDocument/2006/relationships/image" Target="../media/image48.pct"/><Relationship Id="rId3" Type="http://schemas.openxmlformats.org/officeDocument/2006/relationships/image" Target="../media/image49.pct"/><Relationship Id="rId4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22.png"/><Relationship Id="rId14" Type="http://schemas.openxmlformats.org/officeDocument/2006/relationships/image" Target="../media/image23.png"/><Relationship Id="rId15" Type="http://schemas.openxmlformats.org/officeDocument/2006/relationships/image" Target="../media/image24.png"/><Relationship Id="rId16" Type="http://schemas.openxmlformats.org/officeDocument/2006/relationships/image" Target="../media/image25.png"/><Relationship Id="rId17" Type="http://schemas.openxmlformats.org/officeDocument/2006/relationships/image" Target="../media/image26.png"/><Relationship Id="rId18" Type="http://schemas.openxmlformats.org/officeDocument/2006/relationships/image" Target="../media/image27.png"/><Relationship Id="rId19" Type="http://schemas.openxmlformats.org/officeDocument/2006/relationships/image" Target="../media/image28.jpeg"/><Relationship Id="rId20" Type="http://schemas.openxmlformats.org/officeDocument/2006/relationships/image" Target="../media/image29.jpeg"/><Relationship Id="rId21" Type="http://schemas.openxmlformats.org/officeDocument/2006/relationships/image" Target="../media/image30.pct"/><Relationship Id="rId22" Type="http://schemas.openxmlformats.org/officeDocument/2006/relationships/slideLayout" Target="../slideLayouts/slideLayout5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55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ct"/><Relationship Id="rId2" Type="http://schemas.openxmlformats.org/officeDocument/2006/relationships/slideLayout" Target="../slideLayouts/slideLayout5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5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ct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ct"/><Relationship Id="rId2" Type="http://schemas.openxmlformats.org/officeDocument/2006/relationships/image" Target="../media/image37.pct"/><Relationship Id="rId3" Type="http://schemas.openxmlformats.org/officeDocument/2006/relationships/image" Target="../media/image37.pct"/><Relationship Id="rId4" Type="http://schemas.openxmlformats.org/officeDocument/2006/relationships/image" Target="../media/image37.pct"/><Relationship Id="rId5" Type="http://schemas.openxmlformats.org/officeDocument/2006/relationships/image" Target="../media/image37.pct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hyperlink" Target="http://obo.sourceforge.net/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ct"/><Relationship Id="rId6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46.pct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The Joy of Ontology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uzanna Lewi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MI Colloquium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pril 2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entury Gothic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, 2006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2009880" y="27000"/>
          <a:ext cx="512928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9880" y="27000"/>
                    <a:ext cx="512928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2009880" y="3706920"/>
          <a:ext cx="5129280" cy="312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09880" y="3706920"/>
                    <a:ext cx="51292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0" y="3255840"/>
            <a:ext cx="9144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Century Gothic"/>
              </a:rPr>
              <a:t>The Challenge of Commun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2" dur="1" fill="hold"/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267840" y="525600"/>
            <a:ext cx="8610840" cy="620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tanford:  Tools for ontology alignment, indexing, and management (Cores 1, 4–7: Mark Musen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Lawrence–Berkeley Labs: Tools to use ontologies for data annotation (Cores 2, 5–7: Suzanna Lewis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Mayo Clinic:  Tools for access to large controlled terminologies (Core 1: Chris Chute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Victoria: Tools for ontology and data visualization (Cores 1 and 2: Margaret-Anne Story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University at Buffalo: Dissemination of best practices for ontology engineering (Core 6: Barry Smith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Century Gothic"/>
              </a:rPr>
              <a:t>Driving Biological Projects</a:t>
            </a:r>
            <a:endParaRPr b="0" lang="en-US" sz="40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entury Gothic"/>
              </a:rPr>
              <a:t>Trial Bank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: UCSF, Ida Sim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entury Gothic"/>
              </a:rPr>
              <a:t>Flybase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: Cambridge, Michael Ashburner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entury Gothic"/>
              </a:rPr>
              <a:t>ZFIN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: Oregon, Monte Westerfield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7832880" y="4546440"/>
            <a:ext cx="691920" cy="863640"/>
          </a:xfrm>
          <a:prstGeom prst="rect">
            <a:avLst/>
          </a:prstGeom>
          <a:ln w="0">
            <a:noFill/>
          </a:ln>
        </p:spPr>
      </p:pic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7696080" y="2971800"/>
            <a:ext cx="828720" cy="1066680"/>
          </a:xfrm>
          <a:prstGeom prst="rect">
            <a:avLst/>
          </a:prstGeom>
          <a:ln w="0">
            <a:noFill/>
          </a:ln>
        </p:spPr>
      </p:pic>
      <p:pic>
        <p:nvPicPr>
          <p:cNvPr id="591" name="" descr=""/>
          <p:cNvPicPr/>
          <p:nvPr/>
        </p:nvPicPr>
        <p:blipFill>
          <a:blip r:embed="rId3"/>
          <a:stretch/>
        </p:blipFill>
        <p:spPr>
          <a:xfrm>
            <a:off x="7381800" y="1994040"/>
            <a:ext cx="1143000" cy="67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Case study: Phenotypes, our current work on OBD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5521680" y="17524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Animal mod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800600" y="2286000"/>
            <a:ext cx="373392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Mutant Phenotype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629400" y="2971800"/>
            <a:ext cx="0" cy="53352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629400" y="4724280"/>
            <a:ext cx="0" cy="53352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Animal disease model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1685880" y="1752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Hum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5521680" y="17524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Animal mod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Animal disease model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602" name=""/>
          <p:cNvSpPr/>
          <p:nvPr/>
        </p:nvSpPr>
        <p:spPr>
          <a:xfrm>
            <a:off x="2362320" y="2971800"/>
            <a:ext cx="0" cy="53352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362320" y="4724280"/>
            <a:ext cx="0" cy="53352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800600" y="2286000"/>
            <a:ext cx="373392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(disease mode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629400" y="2971800"/>
            <a:ext cx="0" cy="53352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629400" y="4724280"/>
            <a:ext cx="0" cy="53352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33520" y="2286000"/>
            <a:ext cx="373356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(diseas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1685880" y="1752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Hum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521680" y="17524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Animal mod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Animal disease model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611" name=""/>
          <p:cNvSpPr/>
          <p:nvPr/>
        </p:nvSpPr>
        <p:spPr>
          <a:xfrm>
            <a:off x="2362320" y="2971800"/>
            <a:ext cx="0" cy="53352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362320" y="4724280"/>
            <a:ext cx="0" cy="53352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800600" y="2286000"/>
            <a:ext cx="373392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(disease mode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629400" y="2971800"/>
            <a:ext cx="0" cy="53352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629400" y="4724280"/>
            <a:ext cx="0" cy="53352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33520" y="2286000"/>
            <a:ext cx="373356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(diseas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962520" y="274320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403848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1685880" y="1752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Hum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521680" y="17524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Animal mod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Animal disease model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622" name=""/>
          <p:cNvSpPr/>
          <p:nvPr/>
        </p:nvSpPr>
        <p:spPr>
          <a:xfrm>
            <a:off x="2362320" y="2971800"/>
            <a:ext cx="0" cy="53352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362320" y="4724280"/>
            <a:ext cx="0" cy="53352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800600" y="2286000"/>
            <a:ext cx="373392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(disease mode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629400" y="2971800"/>
            <a:ext cx="0" cy="53352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629400" y="4724280"/>
            <a:ext cx="0" cy="53352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33520" y="2286000"/>
            <a:ext cx="373356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(diseas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962520" y="274320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962520" y="403848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962520" y="594360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5102280" y="533520"/>
            <a:ext cx="2060640" cy="2666880"/>
          </a:xfrm>
          <a:prstGeom prst="rect">
            <a:avLst/>
          </a:prstGeom>
          <a:ln w="0">
            <a:noFill/>
          </a:ln>
        </p:spPr>
      </p:pic>
      <p:pic>
        <p:nvPicPr>
          <p:cNvPr id="632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1676520" y="533520"/>
            <a:ext cx="2819160" cy="2671560"/>
          </a:xfrm>
          <a:prstGeom prst="rect">
            <a:avLst/>
          </a:prstGeom>
          <a:ln w="0">
            <a:noFill/>
          </a:ln>
        </p:spPr>
      </p:pic>
      <p:pic>
        <p:nvPicPr>
          <p:cNvPr id="633" name="" descr=""/>
          <p:cNvPicPr/>
          <p:nvPr/>
        </p:nvPicPr>
        <p:blipFill>
          <a:blip r:embed="rId3"/>
          <a:stretch/>
        </p:blipFill>
        <p:spPr>
          <a:xfrm>
            <a:off x="1828800" y="3878280"/>
            <a:ext cx="2438280" cy="2193840"/>
          </a:xfrm>
          <a:prstGeom prst="rect">
            <a:avLst/>
          </a:prstGeom>
          <a:ln w="0">
            <a:noFill/>
          </a:ln>
        </p:spPr>
      </p:pic>
      <p:pic>
        <p:nvPicPr>
          <p:cNvPr id="634" name="" descr=""/>
          <p:cNvPicPr/>
          <p:nvPr/>
        </p:nvPicPr>
        <p:blipFill>
          <a:blip r:embed="rId4"/>
          <a:stretch/>
        </p:blipFill>
        <p:spPr>
          <a:xfrm>
            <a:off x="5105520" y="3890880"/>
            <a:ext cx="2209680" cy="216720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2472120" y="316224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urier New"/>
              </a:rPr>
              <a:t>SH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urier New"/>
              </a:rPr>
              <a:t>-/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596560" y="316224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urier New"/>
              </a:rPr>
              <a:t>SH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urier New"/>
              </a:rPr>
              <a:t>-/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438280" y="6110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urier New"/>
              </a:rPr>
              <a:t>shh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Courier New"/>
              </a:rPr>
              <a:t>-/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562720" y="6110280"/>
            <a:ext cx="148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urier New"/>
              </a:rPr>
              <a:t>shh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Courier New"/>
              </a:rPr>
              <a:t>-/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152280" y="485640"/>
            <a:ext cx="7620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heno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entury Gothic"/>
              </a:rPr>
              <a:t>(clinical sign)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=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entity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+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qu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1"/>
          <a:stretch/>
        </p:blipFill>
        <p:spPr>
          <a:xfrm>
            <a:off x="3351240" y="3097080"/>
            <a:ext cx="243828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152280" y="485640"/>
            <a:ext cx="762012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heno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entury Gothic"/>
              </a:rPr>
              <a:t>(clinical sign)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=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entity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+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qu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entury Gothic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=   eye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+   hypotelor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3351240" y="3097080"/>
            <a:ext cx="243828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21" name=""/>
          <p:cNvCxnSpPr>
            <a:stCxn id="122" idx="3"/>
            <a:endCxn id="123" idx="2"/>
          </p:cNvCxnSpPr>
          <p:nvPr/>
        </p:nvCxnSpPr>
        <p:spPr>
          <a:xfrm flipV="1">
            <a:off x="3047760" y="4191120"/>
            <a:ext cx="1639080" cy="1038600"/>
          </a:xfrm>
          <a:prstGeom prst="straightConnector1">
            <a:avLst/>
          </a:prstGeom>
          <a:ln w="57240">
            <a:solidFill>
              <a:srgbClr val="ffcc66"/>
            </a:solidFill>
            <a:miter/>
          </a:ln>
        </p:spPr>
      </p:cxnSp>
      <p:cxnSp>
        <p:nvCxnSpPr>
          <p:cNvPr id="124" name=""/>
          <p:cNvCxnSpPr>
            <a:stCxn id="125" idx="2"/>
            <a:endCxn id="123" idx="0"/>
          </p:cNvCxnSpPr>
          <p:nvPr/>
        </p:nvCxnSpPr>
        <p:spPr>
          <a:xfrm>
            <a:off x="1677600" y="762120"/>
            <a:ext cx="3009240" cy="2286720"/>
          </a:xfrm>
          <a:prstGeom prst="straightConnector1">
            <a:avLst/>
          </a:prstGeom>
          <a:ln w="57240">
            <a:solidFill>
              <a:srgbClr val="ffcc66"/>
            </a:solidFill>
            <a:miter/>
          </a:ln>
        </p:spPr>
      </p:cxnSp>
      <p:cxnSp>
        <p:nvCxnSpPr>
          <p:cNvPr id="126" name=""/>
          <p:cNvCxnSpPr>
            <a:stCxn id="127" idx="1"/>
            <a:endCxn id="123" idx="2"/>
          </p:cNvCxnSpPr>
          <p:nvPr/>
        </p:nvCxnSpPr>
        <p:spPr>
          <a:xfrm flipH="1" flipV="1">
            <a:off x="4686120" y="4190400"/>
            <a:ext cx="724320" cy="1472040"/>
          </a:xfrm>
          <a:prstGeom prst="straightConnector1">
            <a:avLst/>
          </a:prstGeom>
          <a:ln w="57240">
            <a:solidFill>
              <a:srgbClr val="ffcc66"/>
            </a:solidFill>
            <a:miter/>
          </a:ln>
        </p:spPr>
      </p:cxnSp>
      <p:cxnSp>
        <p:nvCxnSpPr>
          <p:cNvPr id="128" name=""/>
          <p:cNvCxnSpPr>
            <a:stCxn id="129" idx="3"/>
            <a:endCxn id="123" idx="1"/>
          </p:cNvCxnSpPr>
          <p:nvPr/>
        </p:nvCxnSpPr>
        <p:spPr>
          <a:xfrm>
            <a:off x="1981080" y="3507840"/>
            <a:ext cx="1524960" cy="111960"/>
          </a:xfrm>
          <a:prstGeom prst="straightConnector1">
            <a:avLst/>
          </a:prstGeom>
          <a:ln w="57240">
            <a:solidFill>
              <a:srgbClr val="ffcc66"/>
            </a:solidFill>
            <a:miter/>
          </a:ln>
        </p:spPr>
      </p:cxnSp>
      <p:cxnSp>
        <p:nvCxnSpPr>
          <p:cNvPr id="130" name=""/>
          <p:cNvCxnSpPr>
            <a:stCxn id="131" idx="3"/>
            <a:endCxn id="123" idx="1"/>
          </p:cNvCxnSpPr>
          <p:nvPr/>
        </p:nvCxnSpPr>
        <p:spPr>
          <a:xfrm>
            <a:off x="1916280" y="2457360"/>
            <a:ext cx="1589760" cy="1162440"/>
          </a:xfrm>
          <a:prstGeom prst="straightConnector1">
            <a:avLst/>
          </a:prstGeom>
          <a:ln w="57240">
            <a:solidFill>
              <a:srgbClr val="ffcc66"/>
            </a:solidFill>
            <a:miter/>
          </a:ln>
        </p:spPr>
      </p:cxnSp>
      <p:cxnSp>
        <p:nvCxnSpPr>
          <p:cNvPr id="132" name=""/>
          <p:cNvCxnSpPr>
            <a:endCxn id="123" idx="1"/>
          </p:cNvCxnSpPr>
          <p:nvPr/>
        </p:nvCxnSpPr>
        <p:spPr>
          <a:xfrm>
            <a:off x="1676520" y="1760400"/>
            <a:ext cx="1829520" cy="1859760"/>
          </a:xfrm>
          <a:prstGeom prst="straightConnector1">
            <a:avLst/>
          </a:prstGeom>
          <a:ln w="57240">
            <a:solidFill>
              <a:srgbClr val="ffcc66"/>
            </a:solidFill>
            <a:miter/>
          </a:ln>
        </p:spPr>
      </p:cxnSp>
      <p:cxnSp>
        <p:nvCxnSpPr>
          <p:cNvPr id="133" name=""/>
          <p:cNvCxnSpPr>
            <a:stCxn id="134" idx="1"/>
            <a:endCxn id="123" idx="0"/>
          </p:cNvCxnSpPr>
          <p:nvPr/>
        </p:nvCxnSpPr>
        <p:spPr>
          <a:xfrm flipH="1">
            <a:off x="4685760" y="2173320"/>
            <a:ext cx="2400840" cy="875520"/>
          </a:xfrm>
          <a:prstGeom prst="straightConnector1">
            <a:avLst/>
          </a:prstGeom>
          <a:ln w="57240">
            <a:solidFill>
              <a:srgbClr val="ffcc66"/>
            </a:solidFill>
            <a:miter/>
          </a:ln>
        </p:spPr>
      </p:cxnSp>
      <p:cxnSp>
        <p:nvCxnSpPr>
          <p:cNvPr id="135" name=""/>
          <p:cNvCxnSpPr>
            <a:stCxn id="136" idx="2"/>
            <a:endCxn id="123" idx="0"/>
          </p:cNvCxnSpPr>
          <p:nvPr/>
        </p:nvCxnSpPr>
        <p:spPr>
          <a:xfrm flipH="1">
            <a:off x="4686120" y="1488600"/>
            <a:ext cx="2653200" cy="1559880"/>
          </a:xfrm>
          <a:prstGeom prst="straightConnector1">
            <a:avLst/>
          </a:prstGeom>
          <a:ln w="57240">
            <a:solidFill>
              <a:srgbClr val="ffcc66"/>
            </a:solidFill>
            <a:miter/>
          </a:ln>
        </p:spPr>
      </p:cxnSp>
      <p:sp>
        <p:nvSpPr>
          <p:cNvPr id="137" name=""/>
          <p:cNvSpPr/>
          <p:nvPr/>
        </p:nvSpPr>
        <p:spPr>
          <a:xfrm flipH="1">
            <a:off x="3505320" y="3733920"/>
            <a:ext cx="380880" cy="0"/>
          </a:xfrm>
          <a:prstGeom prst="line">
            <a:avLst/>
          </a:prstGeom>
          <a:ln w="572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429000" y="5410080"/>
            <a:ext cx="1300320" cy="12016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066680" y="1143000"/>
            <a:ext cx="1235160" cy="6174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7162920" y="3809880"/>
            <a:ext cx="1981080" cy="1155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2743200" y="868320"/>
            <a:ext cx="1943280" cy="503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1755720" y="4800600"/>
            <a:ext cx="1292400" cy="8571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6858000" y="2941560"/>
            <a:ext cx="1646280" cy="6397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7"/>
          <a:stretch/>
        </p:blipFill>
        <p:spPr>
          <a:xfrm>
            <a:off x="5181480" y="6172200"/>
            <a:ext cx="1714680" cy="4222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8"/>
          <a:stretch/>
        </p:blipFill>
        <p:spPr>
          <a:xfrm>
            <a:off x="533520" y="2057400"/>
            <a:ext cx="1382760" cy="8002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9"/>
          <a:stretch/>
        </p:blipFill>
        <p:spPr>
          <a:xfrm>
            <a:off x="6446880" y="1066680"/>
            <a:ext cx="1782720" cy="4222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0"/>
          <a:stretch/>
        </p:blipFill>
        <p:spPr>
          <a:xfrm>
            <a:off x="457200" y="3200400"/>
            <a:ext cx="1523880" cy="6159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1"/>
          <a:stretch/>
        </p:blipFill>
        <p:spPr>
          <a:xfrm>
            <a:off x="5410080" y="5410080"/>
            <a:ext cx="3429000" cy="5032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2"/>
          <a:stretch/>
        </p:blipFill>
        <p:spPr>
          <a:xfrm>
            <a:off x="2514600" y="1639800"/>
            <a:ext cx="1143000" cy="7225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3"/>
          <a:stretch/>
        </p:blipFill>
        <p:spPr>
          <a:xfrm>
            <a:off x="3581280" y="4800600"/>
            <a:ext cx="1447920" cy="6033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4"/>
          <a:stretch/>
        </p:blipFill>
        <p:spPr>
          <a:xfrm>
            <a:off x="7086600" y="1676520"/>
            <a:ext cx="1771560" cy="9936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5"/>
          <a:stretch/>
        </p:blipFill>
        <p:spPr>
          <a:xfrm>
            <a:off x="5867280" y="4229280"/>
            <a:ext cx="879480" cy="1028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6"/>
          <a:stretch/>
        </p:blipFill>
        <p:spPr>
          <a:xfrm>
            <a:off x="4343400" y="1676520"/>
            <a:ext cx="2286000" cy="6634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17"/>
          <a:stretch/>
        </p:blipFill>
        <p:spPr>
          <a:xfrm>
            <a:off x="152280" y="133200"/>
            <a:ext cx="3051360" cy="6289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18"/>
          <a:stretch/>
        </p:blipFill>
        <p:spPr>
          <a:xfrm>
            <a:off x="2286000" y="342900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9"/>
          <a:stretch/>
        </p:blipFill>
        <p:spPr>
          <a:xfrm>
            <a:off x="76320" y="4114800"/>
            <a:ext cx="1981080" cy="4968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0"/>
          <a:stretch/>
        </p:blipFill>
        <p:spPr>
          <a:xfrm>
            <a:off x="152280" y="5892840"/>
            <a:ext cx="1219320" cy="8128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1"/>
          <a:stretch/>
        </p:blipFill>
        <p:spPr>
          <a:xfrm>
            <a:off x="3505320" y="3048120"/>
            <a:ext cx="2361960" cy="1143000"/>
          </a:xfrm>
          <a:prstGeom prst="rect">
            <a:avLst/>
          </a:prstGeom>
          <a:ln w="0">
            <a:noFill/>
          </a:ln>
        </p:spPr>
      </p:pic>
      <p:cxnSp>
        <p:nvCxnSpPr>
          <p:cNvPr id="159" name=""/>
          <p:cNvCxnSpPr>
            <a:stCxn id="141" idx="2"/>
            <a:endCxn id="158" idx="0"/>
          </p:cNvCxnSpPr>
          <p:nvPr/>
        </p:nvCxnSpPr>
        <p:spPr>
          <a:xfrm>
            <a:off x="3714480" y="1371240"/>
            <a:ext cx="972360" cy="1677240"/>
          </a:xfrm>
          <a:prstGeom prst="straightConnector1">
            <a:avLst/>
          </a:prstGeom>
          <a:ln w="57240">
            <a:solidFill>
              <a:srgbClr val="ffcc66"/>
            </a:solidFill>
            <a:miter/>
          </a:ln>
        </p:spPr>
      </p:cxnSp>
      <p:cxnSp>
        <p:nvCxnSpPr>
          <p:cNvPr id="160" name=""/>
          <p:cNvCxnSpPr>
            <a:stCxn id="153" idx="2"/>
            <a:endCxn id="158" idx="0"/>
          </p:cNvCxnSpPr>
          <p:nvPr/>
        </p:nvCxnSpPr>
        <p:spPr>
          <a:xfrm flipH="1">
            <a:off x="4686120" y="2339640"/>
            <a:ext cx="800640" cy="708840"/>
          </a:xfrm>
          <a:prstGeom prst="straightConnector1">
            <a:avLst/>
          </a:prstGeom>
          <a:ln w="57240">
            <a:solidFill>
              <a:srgbClr val="ffcc66"/>
            </a:solidFill>
            <a:miter/>
          </a:ln>
        </p:spPr>
      </p:cxnSp>
      <p:cxnSp>
        <p:nvCxnSpPr>
          <p:cNvPr id="161" name=""/>
          <p:cNvCxnSpPr>
            <a:stCxn id="143" idx="1"/>
            <a:endCxn id="158" idx="3"/>
          </p:cNvCxnSpPr>
          <p:nvPr/>
        </p:nvCxnSpPr>
        <p:spPr>
          <a:xfrm flipH="1">
            <a:off x="5866920" y="3262320"/>
            <a:ext cx="991440" cy="357840"/>
          </a:xfrm>
          <a:prstGeom prst="straightConnector1">
            <a:avLst/>
          </a:prstGeom>
          <a:ln w="57240">
            <a:solidFill>
              <a:srgbClr val="ffcc66"/>
            </a:solidFill>
            <a:miter/>
          </a:ln>
        </p:spPr>
      </p:cxnSp>
      <p:cxnSp>
        <p:nvCxnSpPr>
          <p:cNvPr id="162" name=""/>
          <p:cNvCxnSpPr>
            <a:stCxn id="140" idx="1"/>
            <a:endCxn id="158" idx="3"/>
          </p:cNvCxnSpPr>
          <p:nvPr/>
        </p:nvCxnSpPr>
        <p:spPr>
          <a:xfrm flipH="1" flipV="1">
            <a:off x="5866560" y="3619080"/>
            <a:ext cx="1296360" cy="768960"/>
          </a:xfrm>
          <a:prstGeom prst="straightConnector1">
            <a:avLst/>
          </a:prstGeom>
          <a:ln w="57240">
            <a:solidFill>
              <a:srgbClr val="ffcc66"/>
            </a:solidFill>
            <a:miter/>
          </a:ln>
        </p:spPr>
      </p:cxnSp>
      <p:cxnSp>
        <p:nvCxnSpPr>
          <p:cNvPr id="163" name=""/>
          <p:cNvCxnSpPr>
            <a:stCxn id="152" idx="1"/>
            <a:endCxn id="158" idx="2"/>
          </p:cNvCxnSpPr>
          <p:nvPr/>
        </p:nvCxnSpPr>
        <p:spPr>
          <a:xfrm flipH="1" flipV="1">
            <a:off x="4686120" y="4190760"/>
            <a:ext cx="1181520" cy="552960"/>
          </a:xfrm>
          <a:prstGeom prst="straightConnector1">
            <a:avLst/>
          </a:prstGeom>
          <a:ln w="57240">
            <a:solidFill>
              <a:srgbClr val="ffcc66"/>
            </a:solidFill>
            <a:miter/>
          </a:ln>
        </p:spPr>
      </p:cxnSp>
      <p:cxnSp>
        <p:nvCxnSpPr>
          <p:cNvPr id="164" name=""/>
          <p:cNvCxnSpPr>
            <a:stCxn id="150" idx="0"/>
            <a:endCxn id="158" idx="2"/>
          </p:cNvCxnSpPr>
          <p:nvPr/>
        </p:nvCxnSpPr>
        <p:spPr>
          <a:xfrm flipV="1">
            <a:off x="4304880" y="4190400"/>
            <a:ext cx="381960" cy="610200"/>
          </a:xfrm>
          <a:prstGeom prst="straightConnector1">
            <a:avLst/>
          </a:prstGeom>
          <a:ln w="57240">
            <a:solidFill>
              <a:srgbClr val="ffcc66"/>
            </a:solidFill>
            <a:miter/>
          </a:ln>
        </p:spPr>
      </p:cxnSp>
      <p:cxnSp>
        <p:nvCxnSpPr>
          <p:cNvPr id="165" name=""/>
          <p:cNvCxnSpPr>
            <a:stCxn id="157" idx="0"/>
            <a:endCxn id="142" idx="1"/>
          </p:cNvCxnSpPr>
          <p:nvPr/>
        </p:nvCxnSpPr>
        <p:spPr>
          <a:xfrm flipV="1">
            <a:off x="762120" y="5228640"/>
            <a:ext cx="993960" cy="664200"/>
          </a:xfrm>
          <a:prstGeom prst="straightConnector1">
            <a:avLst/>
          </a:prstGeom>
          <a:ln w="57240">
            <a:solidFill>
              <a:srgbClr val="ffcc66"/>
            </a:solidFill>
            <a:miter/>
          </a:ln>
        </p:spPr>
      </p:cxnSp>
      <p:cxnSp>
        <p:nvCxnSpPr>
          <p:cNvPr id="166" name=""/>
          <p:cNvCxnSpPr>
            <a:stCxn id="156" idx="2"/>
            <a:endCxn id="142" idx="1"/>
          </p:cNvCxnSpPr>
          <p:nvPr/>
        </p:nvCxnSpPr>
        <p:spPr>
          <a:xfrm>
            <a:off x="1066680" y="4611600"/>
            <a:ext cx="689760" cy="618480"/>
          </a:xfrm>
          <a:prstGeom prst="straightConnector1">
            <a:avLst/>
          </a:prstGeom>
          <a:ln w="57240">
            <a:solidFill>
              <a:srgbClr val="ffcc66"/>
            </a:solidFill>
            <a:miter/>
          </a:ln>
        </p:spPr>
      </p:cxnSp>
      <p:cxnSp>
        <p:nvCxnSpPr>
          <p:cNvPr id="167" name=""/>
          <p:cNvCxnSpPr>
            <a:stCxn id="155" idx="3"/>
            <a:endCxn id="158" idx="1"/>
          </p:cNvCxnSpPr>
          <p:nvPr/>
        </p:nvCxnSpPr>
        <p:spPr>
          <a:xfrm flipV="1">
            <a:off x="3200040" y="3618720"/>
            <a:ext cx="305640" cy="381960"/>
          </a:xfrm>
          <a:prstGeom prst="straightConnector1">
            <a:avLst/>
          </a:prstGeom>
          <a:ln w="57240">
            <a:solidFill>
              <a:srgbClr val="ffcc66"/>
            </a:solidFill>
            <a:miter/>
          </a:ln>
        </p:spPr>
      </p:cxnSp>
      <p:cxnSp>
        <p:nvCxnSpPr>
          <p:cNvPr id="168" name=""/>
          <p:cNvCxnSpPr>
            <a:stCxn id="149" idx="2"/>
          </p:cNvCxnSpPr>
          <p:nvPr/>
        </p:nvCxnSpPr>
        <p:spPr>
          <a:xfrm>
            <a:off x="3085920" y="2361960"/>
            <a:ext cx="1486440" cy="610200"/>
          </a:xfrm>
          <a:prstGeom prst="straightConnector1">
            <a:avLst/>
          </a:prstGeom>
          <a:ln w="57240">
            <a:solidFill>
              <a:srgbClr val="ffcc66"/>
            </a:solidFill>
            <a:miter/>
          </a:ln>
        </p:spPr>
      </p:cxn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Century Gothic"/>
                <a:ea typeface="ＭＳ Ｐゴシック"/>
              </a:rPr>
              <a:t>Ontologies are essential to </a:t>
            </a:r>
            <a:br>
              <a:rPr sz="2800"/>
            </a:br>
            <a:r>
              <a:rPr b="1" i="1" lang="en-US" sz="2800" spc="-1" strike="noStrike">
                <a:solidFill>
                  <a:srgbClr val="ffcc66"/>
                </a:solidFill>
                <a:latin typeface="Century Gothic"/>
                <a:ea typeface="ＭＳ Ｐゴシック"/>
              </a:rPr>
              <a:t> make sense of biomedical data</a:t>
            </a:r>
            <a:endParaRPr b="0" lang="en-US" sz="2800" spc="-1" strike="noStrike">
              <a:solidFill>
                <a:srgbClr val="ffcc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>
            <a:off x="152280" y="485640"/>
            <a:ext cx="7620120" cy="36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heno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entury Gothic"/>
              </a:rPr>
              <a:t>(clinical sign)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=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entity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+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qu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entury Gothic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=   eye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+   hypotelor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entury Gothic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=   midface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+   hypoplasti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4" name="" descr=""/>
          <p:cNvPicPr/>
          <p:nvPr/>
        </p:nvPicPr>
        <p:blipFill>
          <a:blip r:embed="rId1"/>
          <a:stretch/>
        </p:blipFill>
        <p:spPr>
          <a:xfrm>
            <a:off x="3351240" y="3097080"/>
            <a:ext cx="243828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152280" y="485640"/>
            <a:ext cx="7848720" cy="41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heno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entury Gothic"/>
              </a:rPr>
              <a:t>(clinical sign)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=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entity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+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qu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entury Gothic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=   eye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+   hypotelor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entury Gothic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=   midface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+   hypoplasti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entury Gothic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=   kidney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+   hypertrophi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1"/>
          <a:stretch/>
        </p:blipFill>
        <p:spPr>
          <a:xfrm>
            <a:off x="3351240" y="3097080"/>
            <a:ext cx="243828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152280" y="485640"/>
            <a:ext cx="77486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heno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entury Gothic"/>
              </a:rPr>
              <a:t>(clinical sign)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=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entity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+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qu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entury Gothic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=   eye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+   hypotelor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entury Gothic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=   midface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+   hypoplasti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entury Gothic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=   kidney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+   hypertrophi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257800" y="3219480"/>
            <a:ext cx="3436920" cy="2790720"/>
          </a:xfrm>
          <a:prstGeom prst="rect">
            <a:avLst/>
          </a:prstGeom>
          <a:noFill/>
          <a:ln w="19080">
            <a:solidFill>
              <a:srgbClr val="686b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Century Gothic"/>
              </a:rPr>
              <a:t>PA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hypotelor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hypoplas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hypertroph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066680" y="3225960"/>
            <a:ext cx="2183040" cy="2741400"/>
          </a:xfrm>
          <a:prstGeom prst="rect">
            <a:avLst/>
          </a:prstGeom>
          <a:noFill/>
          <a:ln w="19080">
            <a:solidFill>
              <a:srgbClr val="686b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Century Gothic"/>
              </a:rPr>
              <a:t>ZFI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ey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mid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kidn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4570560" y="533520"/>
            <a:ext cx="0" cy="5943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573440" y="4154400"/>
            <a:ext cx="590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entury Gothic"/>
              </a:rPr>
              <a:t>+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80880" y="485640"/>
            <a:ext cx="67834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heno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entury Gothic"/>
              </a:rPr>
              <a:t>(clinical sign)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=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entity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+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qu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17800" y="2089080"/>
            <a:ext cx="438696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natomical ont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ell &amp; tissue ontolog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Developmental ont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Gene ont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biological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ellular compon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495320" y="3157560"/>
            <a:ext cx="429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+     PAT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(phenotype and trait ontolog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570560" y="533520"/>
            <a:ext cx="0" cy="5943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380880" y="515880"/>
            <a:ext cx="78552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heno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entury Gothic"/>
              </a:rPr>
              <a:t>(clinical sign)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=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entity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+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qu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entury Gothic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=   eye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+   hypotelor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entury Gothic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=   midface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+   hypoplasti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entury Gothic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=   kidney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+   hypertrophi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838080" y="3379680"/>
            <a:ext cx="600228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7640"/>
                <a:tab algn="l" pos="188604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yndrome =  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entury Gothic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 +  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entury Gothic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 +  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entury Gothic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7640"/>
                <a:tab algn="l" pos="188604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(disea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7640"/>
                <a:tab algn="l" pos="188604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=  holoprosencepha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" descr=""/>
          <p:cNvPicPr/>
          <p:nvPr/>
        </p:nvPicPr>
        <p:blipFill>
          <a:blip r:embed="rId1"/>
          <a:stretch/>
        </p:blipFill>
        <p:spPr>
          <a:xfrm>
            <a:off x="111240" y="1555920"/>
            <a:ext cx="8916840" cy="5008320"/>
          </a:xfrm>
          <a:prstGeom prst="rect">
            <a:avLst/>
          </a:prstGeom>
          <a:ln w="0">
            <a:noFill/>
          </a:ln>
        </p:spPr>
      </p:pic>
      <p:sp>
        <p:nvSpPr>
          <p:cNvPr id="659" name=""/>
          <p:cNvSpPr/>
          <p:nvPr/>
        </p:nvSpPr>
        <p:spPr>
          <a:xfrm>
            <a:off x="235440" y="601560"/>
            <a:ext cx="25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Human holo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prosenceph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3657960" y="601560"/>
            <a:ext cx="18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Zebraf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entury Gothic"/>
              </a:rPr>
              <a:t>shh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721920" y="601560"/>
            <a:ext cx="18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Zebraf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entury Gothic"/>
              </a:rPr>
              <a:t>oep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2" name=""/>
          <p:cNvGraphicFramePr/>
          <p:nvPr/>
        </p:nvGraphicFramePr>
        <p:xfrm>
          <a:off x="76320" y="990720"/>
          <a:ext cx="8915040" cy="4800240"/>
        </p:xfrm>
        <a:graphic>
          <a:graphicData uri="http://schemas.openxmlformats.org/drawingml/2006/table">
            <a:tbl>
              <a:tblPr/>
              <a:tblGrid>
                <a:gridCol w="938160"/>
                <a:gridCol w="782280"/>
                <a:gridCol w="938520"/>
                <a:gridCol w="959400"/>
                <a:gridCol w="917640"/>
                <a:gridCol w="781560"/>
                <a:gridCol w="469440"/>
                <a:gridCol w="625680"/>
                <a:gridCol w="250236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OMIM ge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ZFIN ge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FlyBase ge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FlyBase  mut pu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ZFIN mut pu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mous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ra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SNOM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OMIM dise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LAMB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lamb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LanB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3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FEC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fec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Ferro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chelatas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2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Protoporphyria, Erythropoieti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GLI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gli2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c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38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4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SLC4A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slc4a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CG817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Renal Tubular Acidosis, RTAD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MYO7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myo7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c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8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Deafness; DFNB2; DFNA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ALAS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alas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Al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Anemia, Sideroblastic, X-Linke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KCNH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kcnh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se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2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MYH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myh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Mh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16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Cardiomyopathy, Familial Hypertrophic; CMH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TP5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tp5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p5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6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Breast Canc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ATP2A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atp2a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Ca-P60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Brody Myopath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EYA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eya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ey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25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Branchiootorenal Dysplas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SOX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sox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Sox100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1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Waardenburg-Shah Syndrom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1117440" y="1716120"/>
            <a:ext cx="2895840" cy="1828800"/>
          </a:xfrm>
          <a:prstGeom prst="ellipse">
            <a:avLst/>
          </a:prstGeom>
          <a:solidFill>
            <a:srgbClr val="909082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Light"/>
              </a:rPr>
              <a:t>Open Biomedical Ontolog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Light"/>
              </a:rPr>
              <a:t>(OB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5130720" y="1716120"/>
            <a:ext cx="2895840" cy="1828800"/>
          </a:xfrm>
          <a:prstGeom prst="ellipse">
            <a:avLst/>
          </a:prstGeom>
          <a:solidFill>
            <a:srgbClr val="909082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Light"/>
              </a:rPr>
              <a:t>Open Biomedical Data (OB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159000" y="3881520"/>
            <a:ext cx="2820960" cy="1828800"/>
          </a:xfrm>
          <a:prstGeom prst="ellipse">
            <a:avLst/>
          </a:prstGeom>
          <a:solidFill>
            <a:srgbClr val="909082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Light"/>
              </a:rPr>
              <a:t>BioPor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874880" y="1012680"/>
            <a:ext cx="53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apture and index experimental 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85800" y="39625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Revise biomedica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understan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705720" y="4038480"/>
            <a:ext cx="198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Relate experimental data to results from other 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-299520" y="0"/>
            <a:ext cx="96904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National Center for Biomedical Ont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70" name=""/>
          <p:cNvCxnSpPr>
            <a:stCxn id="664" idx="4"/>
            <a:endCxn id="665" idx="6"/>
          </p:cNvCxnSpPr>
          <p:nvPr/>
        </p:nvCxnSpPr>
        <p:spPr>
          <a:xfrm rot="5400000">
            <a:off x="5667480" y="3884760"/>
            <a:ext cx="1236960" cy="585000"/>
          </a:xfrm>
          <a:prstGeom prst="curvedConnector2">
            <a:avLst/>
          </a:prstGeom>
          <a:ln w="76320">
            <a:solidFill>
              <a:srgbClr val="c0ff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71" name=""/>
          <p:cNvCxnSpPr>
            <a:stCxn id="664" idx="1"/>
            <a:endCxn id="663" idx="7"/>
          </p:cNvCxnSpPr>
          <p:nvPr/>
        </p:nvCxnSpPr>
        <p:spPr>
          <a:xfrm rot="5400000">
            <a:off x="4570560" y="987120"/>
            <a:ext cx="2520" cy="1966320"/>
          </a:xfrm>
          <a:prstGeom prst="curvedConnector5">
            <a:avLst>
              <a:gd name="adj1" fmla="val -30400000"/>
              <a:gd name="adj2" fmla="val 49990"/>
              <a:gd name="adj3" fmla="val -30400000"/>
            </a:avLst>
          </a:prstGeom>
          <a:ln w="76320">
            <a:solidFill>
              <a:srgbClr val="c0ff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72" name=""/>
          <p:cNvCxnSpPr>
            <a:stCxn id="663" idx="4"/>
            <a:endCxn id="665" idx="2"/>
          </p:cNvCxnSpPr>
          <p:nvPr/>
        </p:nvCxnSpPr>
        <p:spPr>
          <a:xfrm flipH="1" rot="16200000">
            <a:off x="2237040" y="3886920"/>
            <a:ext cx="1236960" cy="580320"/>
          </a:xfrm>
          <a:prstGeom prst="curvedConnector2">
            <a:avLst/>
          </a:prstGeom>
          <a:ln w="76320">
            <a:solidFill>
              <a:srgbClr val="c0ff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673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3716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Phenotype as an observation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675" name=""/>
          <p:cNvSpPr/>
          <p:nvPr/>
        </p:nvSpPr>
        <p:spPr>
          <a:xfrm>
            <a:off x="487440" y="2209680"/>
            <a:ext cx="2546280" cy="3434040"/>
          </a:xfrm>
          <a:prstGeom prst="rect">
            <a:avLst/>
          </a:prstGeom>
          <a:noFill/>
          <a:ln w="57240">
            <a:solidFill>
              <a:srgbClr val="809ea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609480" y="3009960"/>
            <a:ext cx="2286000" cy="457200"/>
          </a:xfrm>
          <a:prstGeom prst="rect">
            <a:avLst/>
          </a:prstGeom>
          <a:solidFill>
            <a:srgbClr val="e9dc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47640" y="4390920"/>
            <a:ext cx="2210040" cy="514440"/>
          </a:xfrm>
          <a:prstGeom prst="rect">
            <a:avLst/>
          </a:prstGeom>
          <a:solidFill>
            <a:srgbClr val="909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t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425760" y="22096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lass of thing obser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477120" y="2819520"/>
            <a:ext cx="1828800" cy="8380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6516720" y="320040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6294600" y="2209680"/>
            <a:ext cx="2361960" cy="3200400"/>
          </a:xfrm>
          <a:prstGeom prst="rect">
            <a:avLst/>
          </a:prstGeom>
          <a:noFill/>
          <a:ln w="57240">
            <a:solidFill>
              <a:srgbClr val="809ea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id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591240" y="4191120"/>
            <a:ext cx="1676520" cy="914400"/>
          </a:xfrm>
          <a:prstGeom prst="rect">
            <a:avLst/>
          </a:prstGeom>
          <a:solidFill>
            <a:srgbClr val="e3e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593040" y="4572000"/>
            <a:ext cx="15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quence 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425760" y="5715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nt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85" name=""/>
          <p:cNvCxnSpPr>
            <a:stCxn id="684" idx="0"/>
            <a:endCxn id="678" idx="2"/>
          </p:cNvCxnSpPr>
          <p:nvPr/>
        </p:nvCxnSpPr>
        <p:spPr>
          <a:xfrm flipV="1">
            <a:off x="4568400" y="3031920"/>
            <a:ext cx="1080" cy="2683440"/>
          </a:xfrm>
          <a:prstGeom prst="bentConnector2">
            <a:avLst/>
          </a:prstGeom>
          <a:ln w="57240">
            <a:solidFill>
              <a:srgbClr val="66ffff"/>
            </a:solidFill>
            <a:miter/>
            <a:tailEnd len="med" type="triangle" w="med"/>
          </a:ln>
        </p:spPr>
      </p:cxnSp>
      <p:cxnSp>
        <p:nvCxnSpPr>
          <p:cNvPr id="686" name=""/>
          <p:cNvCxnSpPr>
            <a:stCxn id="684" idx="0"/>
            <a:endCxn id="676" idx="3"/>
          </p:cNvCxnSpPr>
          <p:nvPr/>
        </p:nvCxnSpPr>
        <p:spPr>
          <a:xfrm flipV="1" rot="16200000">
            <a:off x="2493360" y="3639240"/>
            <a:ext cx="2477160" cy="1674000"/>
          </a:xfrm>
          <a:prstGeom prst="curvedConnector2">
            <a:avLst/>
          </a:prstGeom>
          <a:ln w="57240">
            <a:solidFill>
              <a:srgbClr val="66ffff"/>
            </a:solidFill>
            <a:miter/>
            <a:tailEnd len="med" type="triangle" w="med"/>
          </a:ln>
        </p:spPr>
      </p:cxnSp>
      <p:cxnSp>
        <p:nvCxnSpPr>
          <p:cNvPr id="687" name=""/>
          <p:cNvCxnSpPr>
            <a:stCxn id="684" idx="0"/>
            <a:endCxn id="677" idx="3"/>
          </p:cNvCxnSpPr>
          <p:nvPr/>
        </p:nvCxnSpPr>
        <p:spPr>
          <a:xfrm flipV="1" rot="16200000">
            <a:off x="3179160" y="4325400"/>
            <a:ext cx="1067400" cy="1711800"/>
          </a:xfrm>
          <a:prstGeom prst="curvedConnector2">
            <a:avLst/>
          </a:prstGeom>
          <a:ln w="57240">
            <a:solidFill>
              <a:srgbClr val="66ffff"/>
            </a:solidFill>
            <a:miter/>
            <a:tailEnd len="med" type="triangle" w="med"/>
          </a:ln>
        </p:spPr>
      </p:cxnSp>
      <p:cxnSp>
        <p:nvCxnSpPr>
          <p:cNvPr id="688" name=""/>
          <p:cNvCxnSpPr>
            <a:stCxn id="684" idx="0"/>
            <a:endCxn id="679" idx="1"/>
          </p:cNvCxnSpPr>
          <p:nvPr/>
        </p:nvCxnSpPr>
        <p:spPr>
          <a:xfrm flipH="1" flipV="1" rot="5400000">
            <a:off x="4284360" y="3521880"/>
            <a:ext cx="2477160" cy="1909080"/>
          </a:xfrm>
          <a:prstGeom prst="curvedConnector2">
            <a:avLst/>
          </a:prstGeom>
          <a:ln w="57240">
            <a:solidFill>
              <a:srgbClr val="66ffff"/>
            </a:solidFill>
            <a:miter/>
            <a:tailEnd len="med" type="triangle" w="med"/>
          </a:ln>
        </p:spPr>
      </p:cxnSp>
      <p:cxnSp>
        <p:nvCxnSpPr>
          <p:cNvPr id="689" name=""/>
          <p:cNvCxnSpPr>
            <a:stCxn id="684" idx="0"/>
            <a:endCxn id="682" idx="1"/>
          </p:cNvCxnSpPr>
          <p:nvPr/>
        </p:nvCxnSpPr>
        <p:spPr>
          <a:xfrm flipH="1" flipV="1" rot="5400000">
            <a:off x="5046480" y="4169880"/>
            <a:ext cx="1067400" cy="2022840"/>
          </a:xfrm>
          <a:prstGeom prst="curvedConnector2">
            <a:avLst/>
          </a:prstGeom>
          <a:ln w="57240">
            <a:solidFill>
              <a:srgbClr val="66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" descr=""/>
          <p:cNvPicPr/>
          <p:nvPr/>
        </p:nvPicPr>
        <p:blipFill>
          <a:blip r:embed="rId1"/>
          <a:stretch/>
        </p:blipFill>
        <p:spPr>
          <a:xfrm>
            <a:off x="685800" y="1652760"/>
            <a:ext cx="7313760" cy="8244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14120" y="609120"/>
            <a:ext cx="891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Review of proposed EAV EQ model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 phenotype is described using an Entity-Quality doubl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Entities are drawn from various OBO ontologies—cell, anatomies, GO, …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Qualities are drawn from one ontology—PATO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3" name=""/>
          <p:cNvSpPr/>
          <p:nvPr/>
        </p:nvSpPr>
        <p:spPr>
          <a:xfrm>
            <a:off x="6248520" y="838080"/>
            <a:ext cx="12189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1284120"/>
            <a:ext cx="9144000" cy="557388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A Portion of the OBO Library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Separation of concern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Not phenotypes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Genotyp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Environmen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ssay, measurement system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Imag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6" name=""/>
          <p:cNvSpPr/>
          <p:nvPr/>
        </p:nvSpPr>
        <p:spPr>
          <a:xfrm>
            <a:off x="1053360" y="4876920"/>
            <a:ext cx="7038720" cy="1362960"/>
          </a:xfrm>
          <a:prstGeom prst="rect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ssociation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enotype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Phenotyp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vironment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ss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Phenotype = Entity Qua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ntity = </a:t>
            </a:r>
            <a:r>
              <a:rPr b="0" i="1" lang="en-US" sz="1800" spc="-1" strike="noStrike">
                <a:solidFill>
                  <a:srgbClr val="ffffff"/>
                </a:solidFill>
                <a:latin typeface="Courier New"/>
              </a:rPr>
              <a:t>OBOClass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Quality = </a:t>
            </a:r>
            <a:r>
              <a:rPr b="0" i="1" lang="en-US" sz="1800" spc="-1" strike="noStrike">
                <a:solidFill>
                  <a:srgbClr val="ffffff"/>
                </a:solidFill>
                <a:latin typeface="Courier New"/>
              </a:rPr>
              <a:t>PATOClass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830400" y="4309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hema</a:t>
            </a: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1"/>
          <a:stretch/>
        </p:blipFill>
        <p:spPr>
          <a:xfrm>
            <a:off x="685800" y="1652760"/>
            <a:ext cx="7313760" cy="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2003 Pilot study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rial of EAV model on small collection of genotype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lyBas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ZFI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Genes were non-orthologou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New curations - in progres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orthologous genes with clinical relevanc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Use the same data model and exchange format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701" name="" descr=""/>
          <p:cNvPicPr/>
          <p:nvPr/>
        </p:nvPicPr>
        <p:blipFill>
          <a:blip r:embed="rId1"/>
          <a:stretch/>
        </p:blipFill>
        <p:spPr>
          <a:xfrm>
            <a:off x="685800" y="1652760"/>
            <a:ext cx="7313760" cy="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Example data record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graphicFrame>
        <p:nvGraphicFramePr>
          <p:cNvPr id="703" name=""/>
          <p:cNvGraphicFramePr/>
          <p:nvPr/>
        </p:nvGraphicFramePr>
        <p:xfrm>
          <a:off x="1523880" y="2438280"/>
          <a:ext cx="6019560" cy="2971800"/>
        </p:xfrm>
        <a:graphic>
          <a:graphicData uri="http://schemas.openxmlformats.org/drawingml/2006/table">
            <a:tbl>
              <a:tblPr/>
              <a:tblGrid>
                <a:gridCol w="1958760"/>
                <a:gridCol w="1622520"/>
                <a:gridCol w="243828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Genotyp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Valu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np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gu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dysplasti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gu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sma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r2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retin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irregul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brai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fus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4" name="" descr=""/>
          <p:cNvPicPr/>
          <p:nvPr/>
        </p:nvPicPr>
        <p:blipFill>
          <a:blip r:embed="rId1"/>
          <a:stretch/>
        </p:blipFill>
        <p:spPr>
          <a:xfrm>
            <a:off x="685800" y="1652760"/>
            <a:ext cx="7313760" cy="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267840" y="60912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ZFIN schema extension: stage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graphicFrame>
        <p:nvGraphicFramePr>
          <p:cNvPr id="706" name=""/>
          <p:cNvGraphicFramePr/>
          <p:nvPr/>
        </p:nvGraphicFramePr>
        <p:xfrm>
          <a:off x="228600" y="2438280"/>
          <a:ext cx="8610480" cy="3192480"/>
        </p:xfrm>
        <a:graphic>
          <a:graphicData uri="http://schemas.openxmlformats.org/drawingml/2006/table">
            <a:tbl>
              <a:tblPr/>
              <a:tblGrid>
                <a:gridCol w="1752480"/>
                <a:gridCol w="3352680"/>
                <a:gridCol w="1295280"/>
                <a:gridCol w="2210040"/>
              </a:tblGrid>
              <a:tr h="58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Genotyp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Stag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Entit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Qualit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np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Hatching:Pec-fi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gu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dysplasti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Hatching:Pec-fi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gu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smal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r2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Hatching:Long-pe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reti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irregul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Larval:Protruding-mout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brai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fus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685800" y="1652760"/>
            <a:ext cx="7313760" cy="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-88200" y="2322360"/>
            <a:ext cx="9324720" cy="2228040"/>
          </a:xfrm>
          <a:prstGeom prst="rect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ssociation =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notype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Phenotyp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vironment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s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Phenotype =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tage*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Entity Qu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Entity =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OBOClass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Stage =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OBOAnatomicalStageClass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Quality =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PATOClass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396760" y="607068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* means zero or m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Stage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685800" y="1652760"/>
            <a:ext cx="7313760" cy="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Monadic and relational qualitie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Monadic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e quality inheres in a single entity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Relational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e quality inheres in two or more entiti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nsitivity of an organism to a kind of drug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nsitivity of an eye to a wavelength of ligh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an turn relational qualities into cross-product monadic qualiti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e.g. sensitivityToRedLigh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better to use relational qualitie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avoids redundancy with existing ontologies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-88200" y="2470320"/>
            <a:ext cx="9324720" cy="1785960"/>
          </a:xfrm>
          <a:prstGeom prst="rect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ssociation = </a:t>
            </a:r>
            <a:r>
              <a:rPr b="0" lang="en-US" sz="2400" spc="-1" strike="noStrike">
                <a:solidFill>
                  <a:srgbClr val="777777"/>
                </a:solidFill>
                <a:latin typeface="Courier New"/>
              </a:rPr>
              <a:t>Genotype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Phenotype </a:t>
            </a:r>
            <a:r>
              <a:rPr b="0" lang="en-US" sz="2400" spc="-1" strike="noStrike">
                <a:solidFill>
                  <a:srgbClr val="777777"/>
                </a:solidFill>
                <a:latin typeface="Courier New"/>
              </a:rPr>
              <a:t>Environment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777777"/>
                </a:solidFill>
                <a:latin typeface="Courier New"/>
              </a:rPr>
              <a:t>Ass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Phenotype = Stage* Entity Quality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Entity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Entity =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OBOClass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Quality =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PATOVersion2Class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41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Incorporating relational qualitie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716" name=""/>
          <p:cNvSpPr/>
          <p:nvPr/>
        </p:nvSpPr>
        <p:spPr>
          <a:xfrm>
            <a:off x="61200" y="502920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xample data recor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268200" y="5538960"/>
            <a:ext cx="8610840" cy="459720"/>
          </a:xfrm>
          <a:prstGeom prst="rect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Phenotype = “organism” sensitiveTo “puromycin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8" name="" descr=""/>
          <p:cNvPicPr/>
          <p:nvPr/>
        </p:nvPicPr>
        <p:blipFill>
          <a:blip r:embed="rId1"/>
          <a:stretch/>
        </p:blipFill>
        <p:spPr>
          <a:xfrm>
            <a:off x="915840" y="1676520"/>
            <a:ext cx="7313760" cy="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Measurable qualitie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82320" y="1515960"/>
            <a:ext cx="8381880" cy="51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ome qualities are inexact and implicitly relative to a wild-type or normal quality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5480" indent="-282960"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relatively short, relatively long, relatively reduce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35480" indent="-282960"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easier than explicitly representing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31480" indent="-226080">
              <a:spcBef>
                <a:spcPts val="451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s tail length shorter-than ‘mouse’ wild-type tail length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ome qualities are determinabl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5480" indent="-282960"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use a measure functio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31480" indent="-226080">
              <a:spcBef>
                <a:spcPts val="451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unit, value, {time}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35480" indent="-282960"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s tail has length 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31480" indent="-226080">
              <a:spcBef>
                <a:spcPts val="451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measure(L, cm) = 2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Keep measurements separate from (but linked to) quality ontology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915840" y="1335240"/>
            <a:ext cx="7313760" cy="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215280" y="2494080"/>
            <a:ext cx="8410320" cy="1872000"/>
          </a:xfrm>
          <a:prstGeom prst="rect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Association = </a:t>
            </a:r>
            <a:r>
              <a:rPr b="0" lang="en-US" sz="2000" spc="-1" strike="noStrike">
                <a:solidFill>
                  <a:srgbClr val="777777"/>
                </a:solidFill>
                <a:latin typeface="Courier New"/>
              </a:rPr>
              <a:t>Genotype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Phenotype </a:t>
            </a:r>
            <a:r>
              <a:rPr b="0" lang="en-US" sz="2000" spc="-1" strike="noStrike">
                <a:solidFill>
                  <a:srgbClr val="777777"/>
                </a:solidFill>
                <a:latin typeface="Courier New"/>
              </a:rPr>
              <a:t>Environment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777777"/>
                </a:solidFill>
                <a:latin typeface="Courier New"/>
              </a:rPr>
              <a:t>Ass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henotype = Stage* Entity Quality Entity*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Measurement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easurement = Unit Value (Tim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ntity = </a:t>
            </a:r>
            <a:r>
              <a:rPr b="0" i="1" lang="en-US" sz="2000" spc="-1" strike="noStrike">
                <a:solidFill>
                  <a:srgbClr val="ffffff"/>
                </a:solidFill>
                <a:latin typeface="Courier New"/>
              </a:rPr>
              <a:t>OBOClass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Quality = </a:t>
            </a:r>
            <a:r>
              <a:rPr b="0" i="1" lang="en-US" sz="2000" spc="-1" strike="noStrike">
                <a:solidFill>
                  <a:srgbClr val="ffffff"/>
                </a:solidFill>
                <a:latin typeface="Courier New"/>
              </a:rPr>
              <a:t>PATOVersion2Class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12000" y="510552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xample data recor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826200" y="5664240"/>
            <a:ext cx="7495920" cy="398880"/>
          </a:xfrm>
          <a:prstGeom prst="rect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henotype = “gut” “acidic” Measurement = “pH” 5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8640" y="42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Incorporating measurement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pic>
        <p:nvPicPr>
          <p:cNvPr id="726" name="" descr=""/>
          <p:cNvPicPr/>
          <p:nvPr/>
        </p:nvPicPr>
        <p:blipFill>
          <a:blip r:embed="rId1"/>
          <a:stretch/>
        </p:blipFill>
        <p:spPr>
          <a:xfrm>
            <a:off x="915840" y="1987560"/>
            <a:ext cx="7313760" cy="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0" y="-5724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The Methodology of Annotation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320480"/>
            <a:ext cx="7772400" cy="71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cientific curators use experimental observations reported in the biomedical literature to link gene products with GO terms in annotations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 gene annotations taken together yield a slowly growing computer-interpretable map of biological reality,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 process of annotating literature also leads to improvements and extensions of the ontology itself, which institutes a virtuous cycle of improvement in the quality and  reach of future annotations and of future versions of the ontology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7310520" y="735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Motivation: to capture biological reality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Inferences and decisions we make are based upon what we know of the biological reality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n ontology is a computable representation of this underlying biological reality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Enables a computer to reason over the data in (some of) the ways that we do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When we annotate the record of an experiment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we use terms representing types to capture what we learn about the instance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20720" indent="-277200"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is experiment as a whole (a process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20720" indent="-277200"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se instances experimented upon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2" marL="1108440" indent="-221400">
              <a:spcBef>
                <a:spcPts val="601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instances are typica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08440" indent="-221400">
              <a:spcBef>
                <a:spcPts val="601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y are representatives of a typ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Ontology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ubTitle"/>
          </p:nvPr>
        </p:nvSpPr>
        <p:spPr>
          <a:xfrm>
            <a:off x="10299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 thing of beauty is a joy forever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ith acknowledgement and thanks to: Mark Musen, Barry Smith, Sima Misra, Chris Mungall, Daniel Rubin, and David Hil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3441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Interpretation of the schema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How should EAV data records be interpreted by a computer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What are the instances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Is the EAV schema just to improve database searching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an it be used for meaningful cross-species comparisons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735" name="" descr=""/>
          <p:cNvPicPr/>
          <p:nvPr/>
        </p:nvPicPr>
        <p:blipFill>
          <a:blip r:embed="rId1"/>
          <a:stretch/>
        </p:blipFill>
        <p:spPr>
          <a:xfrm>
            <a:off x="685800" y="1652760"/>
            <a:ext cx="7313760" cy="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6" name=""/>
          <p:cNvGraphicFramePr/>
          <p:nvPr/>
        </p:nvGraphicFramePr>
        <p:xfrm>
          <a:off x="457200" y="1876320"/>
          <a:ext cx="8229600" cy="3990960"/>
        </p:xfrm>
        <a:graphic>
          <a:graphicData uri="http://schemas.openxmlformats.org/drawingml/2006/table">
            <a:tbl>
              <a:tblPr/>
              <a:tblGrid>
                <a:gridCol w="1905120"/>
                <a:gridCol w="3581280"/>
                <a:gridCol w="2743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Genotyp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Ent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Qual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np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gu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dysplast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gu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smal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r2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reti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irregula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bra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fus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tm8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d/v pattern form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abnorm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blood island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number increas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Bsb[2]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elongation of arista liter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arrest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C-alpha[1D]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adult behaviou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uncoordinat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7" name=""/>
          <p:cNvSpPr/>
          <p:nvPr/>
        </p:nvSpPr>
        <p:spPr>
          <a:xfrm>
            <a:off x="5476320" y="6207120"/>
            <a:ext cx="335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2003 trial data: FB &amp; ZF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23004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What is the Entity slot used for?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pic>
        <p:nvPicPr>
          <p:cNvPr id="739" name="" descr=""/>
          <p:cNvPicPr/>
          <p:nvPr/>
        </p:nvPicPr>
        <p:blipFill>
          <a:blip r:embed="rId1"/>
          <a:stretch/>
        </p:blipFill>
        <p:spPr>
          <a:xfrm>
            <a:off x="685800" y="1652760"/>
            <a:ext cx="7313760" cy="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441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What is the Entity slot used for?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526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In practical terms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n ID from one of the following ontologie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GO CC, BP, and MF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pecies-specific anatomical ontology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OBO Cel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Or a cross-produc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e.g.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acidification GO:0045851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which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has_locationOBOREL midgut FBbt00005383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[example from FBal0062296: Acidification in the midgut of homozygous larvae is often less than in wild-type larvae]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But what does it mean in the context of an annotation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742" name="" descr=""/>
          <p:cNvPicPr/>
          <p:nvPr/>
        </p:nvPicPr>
        <p:blipFill>
          <a:blip r:embed="rId1"/>
          <a:stretch/>
        </p:blipFill>
        <p:spPr>
          <a:xfrm>
            <a:off x="685800" y="1652760"/>
            <a:ext cx="7313760" cy="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3" name="" descr=""/>
          <p:cNvPicPr/>
          <p:nvPr/>
        </p:nvPicPr>
        <p:blipFill>
          <a:blip r:embed="rId1"/>
          <a:stretch/>
        </p:blipFill>
        <p:spPr>
          <a:xfrm>
            <a:off x="685800" y="1289160"/>
            <a:ext cx="7313760" cy="82440"/>
          </a:xfrm>
          <a:prstGeom prst="rect">
            <a:avLst/>
          </a:prstGeom>
          <a:ln w="0">
            <a:noFill/>
          </a:ln>
        </p:spPr>
      </p:pic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7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Universals and particular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444680"/>
            <a:ext cx="7772400" cy="67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n ontology consist of universals (classes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ruitfly, wing, fligh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Experimental data generally concerns particulars (instances) that instantiate universal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s particular wing of this particular fruitfly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s particular fruitfly  participating in this particular flight from here to ther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In annotation we often use a class ID as a proxy for an (unnamed) instance (or collection of instances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It is important to always keep this distinction in mind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6" name=""/>
          <p:cNvGraphicFramePr/>
          <p:nvPr/>
        </p:nvGraphicFramePr>
        <p:xfrm>
          <a:off x="419040" y="2057400"/>
          <a:ext cx="8305920" cy="4419720"/>
        </p:xfrm>
        <a:graphic>
          <a:graphicData uri="http://schemas.openxmlformats.org/drawingml/2006/table">
            <a:tbl>
              <a:tblPr/>
              <a:tblGrid>
                <a:gridCol w="1905120"/>
                <a:gridCol w="2286000"/>
                <a:gridCol w="2209680"/>
                <a:gridCol w="190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Genot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Ent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1d1cb"/>
                          </a:solidFill>
                          <a:latin typeface="Courier New"/>
                          <a:ea typeface="Osaka"/>
                        </a:rPr>
                        <a:t>Qual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Qual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np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gu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1d1cb"/>
                          </a:solidFill>
                          <a:latin typeface="Courier New"/>
                          <a:ea typeface="Osaka"/>
                        </a:rPr>
                        <a:t>struct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dysplasti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gu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1d1cb"/>
                          </a:solidFill>
                          <a:latin typeface="Courier New"/>
                          <a:ea typeface="Osaka"/>
                        </a:rPr>
                        <a:t>relative siz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smal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r2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ret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1d1cb"/>
                          </a:solidFill>
                          <a:latin typeface="Courier New"/>
                          <a:ea typeface="Osaka"/>
                        </a:rPr>
                        <a:t>patter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irregul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bra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1d1cb"/>
                          </a:solidFill>
                          <a:latin typeface="Courier New"/>
                          <a:ea typeface="Osaka"/>
                        </a:rPr>
                        <a:t>struct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fus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tm8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d/v pattern form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1d1cb"/>
                          </a:solidFill>
                          <a:latin typeface="Courier New"/>
                          <a:ea typeface="Osaka"/>
                        </a:rPr>
                        <a:t>qualitati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abnorm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blood islan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1d1cb"/>
                          </a:solidFill>
                          <a:latin typeface="Courier New"/>
                          <a:ea typeface="Osaka"/>
                        </a:rPr>
                        <a:t>rel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number increas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Bsb[2]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elongation of arista liter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1d1cb"/>
                          </a:solidFill>
                          <a:latin typeface="Courier New"/>
                          <a:ea typeface="Osaka"/>
                        </a:rPr>
                        <a:t>proce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arrest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C-alpha[1D]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adult behaviou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1d1cb"/>
                          </a:solidFill>
                          <a:latin typeface="Courier New"/>
                          <a:ea typeface="Osaka"/>
                        </a:rPr>
                        <a:t>behavioral activ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uncoordinat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7" name=""/>
          <p:cNvSpPr/>
          <p:nvPr/>
        </p:nvSpPr>
        <p:spPr>
          <a:xfrm>
            <a:off x="6187680" y="6527880"/>
            <a:ext cx="335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2003 trial data: FB &amp; ZF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915840" y="1593720"/>
            <a:ext cx="7313760" cy="82800"/>
          </a:xfrm>
          <a:prstGeom prst="rect">
            <a:avLst/>
          </a:prstGeom>
          <a:ln w="0">
            <a:noFill/>
          </a:ln>
        </p:spPr>
      </p:pic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72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What is the Quality slot used for?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Qualitie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reat as </a:t>
            </a:r>
            <a:r>
              <a:rPr b="0" i="1" lang="en-US" sz="2800" spc="-1" strike="noStrike">
                <a:solidFill>
                  <a:srgbClr val="ffffff"/>
                </a:solidFill>
                <a:latin typeface="Century Gothic"/>
              </a:rPr>
              <a:t>Qualiti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 </a:t>
            </a:r>
            <a:r>
              <a:rPr b="0" i="1" lang="en-US" sz="2400" spc="-1" strike="noStrike">
                <a:solidFill>
                  <a:srgbClr val="ffffff"/>
                </a:solidFill>
                <a:latin typeface="Century Gothic"/>
              </a:rPr>
              <a:t>dependent entity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a quality must have </a:t>
            </a:r>
            <a:r>
              <a:rPr b="0" lang="en-US" sz="2000" spc="-1" strike="noStrike">
                <a:solidFill>
                  <a:srgbClr val="ffff00"/>
                </a:solidFill>
                <a:latin typeface="Century Gothic"/>
              </a:rPr>
              <a:t>independent entity(s)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as beare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e quality </a:t>
            </a:r>
            <a:r>
              <a:rPr b="0" i="1" lang="en-US" sz="2000" spc="-1" strike="noStrike">
                <a:solidFill>
                  <a:srgbClr val="ffffff"/>
                </a:solidFill>
                <a:latin typeface="Century Gothic"/>
              </a:rPr>
              <a:t>inheres_in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the beare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Exampl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particular </a:t>
            </a:r>
            <a:r>
              <a:rPr b="0" i="1" lang="en-US" sz="2400" spc="-1" strike="noStrike">
                <a:solidFill>
                  <a:srgbClr val="ffffff"/>
                </a:solidFill>
                <a:latin typeface="Century Gothic"/>
              </a:rPr>
              <a:t>shape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of this </a:t>
            </a:r>
            <a:r>
              <a:rPr b="0" lang="en-US" sz="2400" spc="-1" strike="noStrike">
                <a:solidFill>
                  <a:srgbClr val="ffff00"/>
                </a:solidFill>
                <a:latin typeface="Century Gothic"/>
              </a:rPr>
              <a:t>ball</a:t>
            </a:r>
            <a:r>
              <a:rPr b="0" lang="en-US" sz="2400" spc="-1" strike="noStrike">
                <a:solidFill>
                  <a:srgbClr val="ff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particular </a:t>
            </a:r>
            <a:r>
              <a:rPr b="0" i="1" lang="en-US" sz="2400" spc="-1" strike="noStrike">
                <a:solidFill>
                  <a:srgbClr val="ffffff"/>
                </a:solidFill>
                <a:latin typeface="Century Gothic"/>
              </a:rPr>
              <a:t>structure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of this </a:t>
            </a:r>
            <a:r>
              <a:rPr b="0" lang="en-US" sz="2400" spc="-1" strike="noStrike">
                <a:solidFill>
                  <a:srgbClr val="ffff00"/>
                </a:solidFill>
                <a:latin typeface="Century Gothic"/>
              </a:rPr>
              <a:t>wi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particular </a:t>
            </a:r>
            <a:r>
              <a:rPr b="0" i="1" lang="en-US" sz="2400" spc="-1" strike="noStrike">
                <a:solidFill>
                  <a:srgbClr val="ffffff"/>
                </a:solidFill>
                <a:latin typeface="Century Gothic"/>
              </a:rPr>
              <a:t>length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of this </a:t>
            </a:r>
            <a:r>
              <a:rPr b="0" lang="en-US" sz="2400" spc="-1" strike="noStrike">
                <a:solidFill>
                  <a:srgbClr val="ffff00"/>
                </a:solidFill>
                <a:latin typeface="Century Gothic"/>
              </a:rPr>
              <a:t>tai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particular </a:t>
            </a:r>
            <a:r>
              <a:rPr b="0" i="1" lang="en-US" sz="2400" spc="-1" strike="noStrike">
                <a:solidFill>
                  <a:srgbClr val="ffffff"/>
                </a:solidFill>
                <a:latin typeface="Century Gothic"/>
              </a:rPr>
              <a:t>rate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of </a:t>
            </a:r>
            <a:r>
              <a:rPr b="0" lang="en-US" sz="2400" spc="-1" strike="noStrike">
                <a:solidFill>
                  <a:srgbClr val="ffff00"/>
                </a:solidFill>
                <a:latin typeface="Century Gothic"/>
              </a:rPr>
              <a:t>synaptic</a:t>
            </a:r>
            <a:r>
              <a:rPr b="0" lang="en-US" sz="24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entury Gothic"/>
              </a:rPr>
              <a:t>transmission</a:t>
            </a:r>
            <a:r>
              <a:rPr b="0" lang="en-US" sz="24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between these two neuron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752" name="" descr=""/>
          <p:cNvPicPr/>
          <p:nvPr/>
        </p:nvPicPr>
        <p:blipFill>
          <a:blip r:embed="rId1"/>
          <a:stretch/>
        </p:blipFill>
        <p:spPr>
          <a:xfrm>
            <a:off x="915840" y="1652760"/>
            <a:ext cx="7313760" cy="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Attribute universals vs Attribute particular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85800" y="45716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In an EAV annotation, a PATO class ID typically serves  as a proxy for an unnamed attribute instance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Universals (classes) must always be defined in terms of their instances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5" name=""/>
          <p:cNvSpPr/>
          <p:nvPr/>
        </p:nvSpPr>
        <p:spPr>
          <a:xfrm>
            <a:off x="685800" y="5867280"/>
            <a:ext cx="7772400" cy="838440"/>
          </a:xfrm>
          <a:prstGeom prst="rect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Formal Theory of Substances, Qualities,  and Univers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abian NEUHAUS Pierre GRENON Barry SMITH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6" name="" descr=""/>
          <p:cNvPicPr/>
          <p:nvPr/>
        </p:nvPicPr>
        <p:blipFill>
          <a:blip r:embed="rId1"/>
          <a:stretch/>
        </p:blipFill>
        <p:spPr>
          <a:xfrm>
            <a:off x="2438280" y="2057400"/>
            <a:ext cx="4038840" cy="2271600"/>
          </a:xfrm>
          <a:prstGeom prst="rect">
            <a:avLst/>
          </a:prstGeom>
          <a:ln w="0">
            <a:noFill/>
          </a:ln>
        </p:spPr>
      </p:pic>
      <p:pic>
        <p:nvPicPr>
          <p:cNvPr id="757" name="" descr=""/>
          <p:cNvPicPr/>
          <p:nvPr/>
        </p:nvPicPr>
        <p:blipFill>
          <a:blip r:embed="rId2"/>
          <a:stretch/>
        </p:blipFill>
        <p:spPr>
          <a:xfrm>
            <a:off x="915840" y="1822320"/>
            <a:ext cx="7313760" cy="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441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How is the attribute slot used?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graphicFrame>
        <p:nvGraphicFramePr>
          <p:cNvPr id="759" name=""/>
          <p:cNvGraphicFramePr/>
          <p:nvPr/>
        </p:nvGraphicFramePr>
        <p:xfrm>
          <a:off x="152280" y="2057400"/>
          <a:ext cx="8839440" cy="4154400"/>
        </p:xfrm>
        <a:graphic>
          <a:graphicData uri="http://schemas.openxmlformats.org/drawingml/2006/table">
            <a:tbl>
              <a:tblPr/>
              <a:tblGrid>
                <a:gridCol w="1752840"/>
                <a:gridCol w="2286000"/>
                <a:gridCol w="2819160"/>
                <a:gridCol w="1981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Genot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Ent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1d1cb"/>
                          </a:solidFill>
                          <a:latin typeface="Courier New"/>
                          <a:ea typeface="Osaka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np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gu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1d1cb"/>
                          </a:solidFill>
                          <a:latin typeface="Courier New"/>
                          <a:ea typeface="Osaka"/>
                        </a:rPr>
                        <a:t>struct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dysplasti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gu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1d1cb"/>
                          </a:solidFill>
                          <a:latin typeface="Courier New"/>
                          <a:ea typeface="Osaka"/>
                        </a:rPr>
                        <a:t>relative siz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smal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38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r2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ret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1d1cb"/>
                          </a:solidFill>
                          <a:latin typeface="Courier New"/>
                          <a:ea typeface="Osaka"/>
                        </a:rPr>
                        <a:t>patter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irregul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bra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1d1cb"/>
                          </a:solidFill>
                          <a:latin typeface="Courier New"/>
                          <a:ea typeface="Osaka"/>
                        </a:rPr>
                        <a:t>struct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fus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tm8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d/v pattern form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1d1cb"/>
                          </a:solidFill>
                          <a:latin typeface="Courier New"/>
                          <a:ea typeface="Osaka"/>
                        </a:rPr>
                        <a:t>qualitati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abnorm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blood islan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1d1cb"/>
                          </a:solidFill>
                          <a:latin typeface="Courier New"/>
                          <a:ea typeface="Osaka"/>
                        </a:rPr>
                        <a:t>rel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number increas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Bsb[2]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elongation of arista liter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1d1cb"/>
                          </a:solidFill>
                          <a:latin typeface="Courier New"/>
                          <a:ea typeface="Osaka"/>
                        </a:rPr>
                        <a:t>proce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arrest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C-alpha[1D]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adult behaviou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1d1cb"/>
                          </a:solidFill>
                          <a:latin typeface="Courier New"/>
                          <a:ea typeface="Osaka"/>
                        </a:rPr>
                        <a:t>behavioral activ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uncoordinat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</a:tr>
            </a:tbl>
          </a:graphicData>
        </a:graphic>
      </p:graphicFrame>
      <p:pic>
        <p:nvPicPr>
          <p:cNvPr id="760" name="" descr=""/>
          <p:cNvPicPr/>
          <p:nvPr/>
        </p:nvPicPr>
        <p:blipFill>
          <a:blip r:embed="rId1"/>
          <a:stretch/>
        </p:blipFill>
        <p:spPr>
          <a:xfrm>
            <a:off x="915840" y="1822320"/>
            <a:ext cx="7313760" cy="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864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Century Gothic"/>
              </a:rPr>
              <a:t>What is an ontology</a:t>
            </a:r>
            <a:endParaRPr b="0" lang="en-US" sz="40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915840" y="1652760"/>
            <a:ext cx="7313760" cy="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-88200" y="2322360"/>
            <a:ext cx="9324720" cy="2228040"/>
          </a:xfrm>
          <a:prstGeom prst="rect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ssociation =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notype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Phenotyp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vironment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s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Phenotype =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tage*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Entity Attrib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Entity =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OBOClass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Stage =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OBOAnatomicalStageClass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ttribute =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PATOClass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5396760" y="607068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* means zero or m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Current Model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pic>
        <p:nvPicPr>
          <p:cNvPr id="764" name="" descr=""/>
          <p:cNvPicPr/>
          <p:nvPr/>
        </p:nvPicPr>
        <p:blipFill>
          <a:blip r:embed="rId1"/>
          <a:stretch/>
        </p:blipFill>
        <p:spPr>
          <a:xfrm>
            <a:off x="685800" y="1652760"/>
            <a:ext cx="7313760" cy="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441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Composite phenotype classe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Mammalian phenotype has composite phenotype class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.g. “reduced B cell number”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ompose at annotation time or ontology curation time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alse dichotomy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ore 2 will help map between composite class based annotation and EAV annotation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767" name="" descr=""/>
          <p:cNvPicPr/>
          <p:nvPr/>
        </p:nvPicPr>
        <p:blipFill>
          <a:blip r:embed="rId1"/>
          <a:stretch/>
        </p:blipFill>
        <p:spPr>
          <a:xfrm>
            <a:off x="915840" y="1822320"/>
            <a:ext cx="7313760" cy="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Interpreting annotation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nnotations are data record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ypically use class ID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implicitly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refer to instanc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How do we map an annotation to instances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Important for using annotations computationally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770" name="" descr=""/>
          <p:cNvPicPr/>
          <p:nvPr/>
        </p:nvPicPr>
        <p:blipFill>
          <a:blip r:embed="rId1"/>
          <a:stretch/>
        </p:blipFill>
        <p:spPr>
          <a:xfrm>
            <a:off x="915840" y="1822320"/>
            <a:ext cx="7313760" cy="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800" y="1386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Interpreting annotations (1)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342720" y="21337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hat does an EA (or EAV) annotation mean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Annotation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Genotype=“FBal00123” E=“brain” A=“fused”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presumed implied meaning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this organism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has_part x, where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x instance_of “brain”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x has_quality “fused”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or in natural language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radley Hand ITC TT-Bold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Bradley Hand ITC TT-Bold"/>
              </a:rPr>
              <a:t>this organism has a fused brain”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Various built-in assumption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773" name="" descr=""/>
          <p:cNvPicPr/>
          <p:nvPr/>
        </p:nvPicPr>
        <p:blipFill>
          <a:blip r:embed="rId1"/>
          <a:stretch/>
        </p:blipFill>
        <p:spPr>
          <a:xfrm>
            <a:off x="915840" y="1523880"/>
            <a:ext cx="7313760" cy="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4" name="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610480" cy="48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Interpreting annotations (II)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71360"/>
            <a:ext cx="7772400" cy="46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What does this mean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nnotation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=“FBal00123” E=“wing” A=“absent”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using same mapping as annotation I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fly98 has_part x, wher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x instance_of “wing”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x has_quality “absent”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or in natural language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radley Hand ITC TT-Bold"/>
              </a:rPr>
              <a:t>this fly has a wing which is not there!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hat we really intend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NOT(this organism has_part x, where x instance_of “wing”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777" name="" descr=""/>
          <p:cNvPicPr/>
          <p:nvPr/>
        </p:nvPicPr>
        <p:blipFill>
          <a:blip r:embed="rId1"/>
          <a:stretch/>
        </p:blipFill>
        <p:spPr>
          <a:xfrm>
            <a:off x="915840" y="1639800"/>
            <a:ext cx="7313760" cy="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-41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Interpreting annotations (II)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115560" y="1731960"/>
            <a:ext cx="8915400" cy="44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hat does this mean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5480" indent="-282960"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annotation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31480" indent="-226080">
              <a:lnSpc>
                <a:spcPct val="100000"/>
              </a:lnSpc>
              <a:spcBef>
                <a:spcPts val="451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Genotype=“FBal00123” E=“wing” A=“absent”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35480" indent="-282960"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using same mapping as annotation I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31480" indent="-226080">
              <a:lnSpc>
                <a:spcPct val="100000"/>
              </a:lnSpc>
              <a:spcBef>
                <a:spcPts val="451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this organism has_part x, where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584000" indent="-226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x instance_of “wing”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584000" indent="-226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x has_quality “absent”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735480" indent="-282960"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or in natural language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radley Hand ITC TT-Bold"/>
              </a:rPr>
              <a:t>this fly has a wing which is not there!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35480" indent="-282960"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What we really intend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31480" indent="-226080">
              <a:spcBef>
                <a:spcPts val="451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s organism has_quality “wingless”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31480" indent="-226080">
              <a:spcBef>
                <a:spcPts val="451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wingless” = the property of having count(has_part “wing”)=0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780" name="" descr=""/>
          <p:cNvPicPr/>
          <p:nvPr/>
        </p:nvPicPr>
        <p:blipFill>
          <a:blip r:embed="rId1"/>
          <a:stretch/>
        </p:blipFill>
        <p:spPr>
          <a:xfrm>
            <a:off x="915840" y="1352520"/>
            <a:ext cx="7313760" cy="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7240" y="2044800"/>
            <a:ext cx="777240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Are our computational representations intended to capture reality?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800" y="473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Does this matter?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85800" y="2268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f we simply use the colloquial expression “absent”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hat are the consequences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Basic search will be fin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e.g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“find all wing phenotypes”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Logical reasoners will compute incorrect result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omputers will not be able to reason correctly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We must explicitly provide specific rules for certain attributes such as “absent”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784" name="" descr=""/>
          <p:cNvPicPr/>
          <p:nvPr/>
        </p:nvPicPr>
        <p:blipFill>
          <a:blip r:embed="rId1"/>
          <a:stretch/>
        </p:blipFill>
        <p:spPr>
          <a:xfrm>
            <a:off x="915840" y="1711440"/>
            <a:ext cx="7313760" cy="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/>
          <p:nvPr/>
        </p:nvSpPr>
        <p:spPr>
          <a:xfrm>
            <a:off x="687240" y="-5220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  <a:ea typeface="Osaka"/>
              </a:rPr>
              <a:t>Interpreting annotations (III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534960" y="1697040"/>
            <a:ext cx="80773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Osaka"/>
              </a:rPr>
              <a:t>What does this mea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Osaka"/>
              </a:rPr>
              <a:t>annota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Osaka"/>
              </a:rPr>
              <a:t>E=“digit” A=“supernumery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Osaka"/>
              </a:rPr>
              <a:t>using same interpretation as annotation 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Osaka"/>
              </a:rPr>
              <a:t>this organism has_part x, w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487880" indent="-212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Osaka"/>
              </a:rPr>
              <a:t>x instance_of “digit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87880" indent="-212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Osaka"/>
              </a:rPr>
              <a:t>x has_quality “supernumery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Osaka"/>
              </a:rPr>
              <a:t>or in natural languag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radley Hand ITC TT-Bold"/>
                <a:ea typeface="Osaka"/>
              </a:rPr>
              <a:t>this organism has a particular finger which is supernumery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Osaka"/>
              </a:rPr>
              <a:t>What we really inten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  <a:ea typeface="Osaka"/>
              </a:rPr>
              <a:t>this person has_quality “supernumery finger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Osaka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Osaka"/>
              </a:rPr>
              <a:t>supernumery finger” = </a:t>
            </a:r>
            <a:r>
              <a:rPr b="0" i="1" lang="en-US" sz="2000" spc="-1" strike="noStrike">
                <a:solidFill>
                  <a:srgbClr val="ffffff"/>
                </a:solidFill>
                <a:latin typeface="Courier New"/>
                <a:ea typeface="Osaka"/>
              </a:rPr>
              <a:t>the property of having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Osaka"/>
              </a:rPr>
              <a:t> count(has_part “digit”) &gt; wild-type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915840" y="1330200"/>
            <a:ext cx="7313760" cy="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Ontology (as a branch of philosophy)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 science of what exists in every area of reality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 classification of entities: what kinds of things exis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 relations between these entiti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Defines a scientific field's vocabulary and the canonical formulations of its theories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eeks to solve problems which arise in these domains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687240" y="17316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  <a:ea typeface="Osaka"/>
              </a:rPr>
              <a:t>Interpreting annotations (IV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687240" y="1363680"/>
            <a:ext cx="7772400" cy="53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Osaka"/>
              </a:rPr>
              <a:t>What does this mea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Osaka"/>
              </a:rPr>
              <a:t>annota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Osaka"/>
              </a:rPr>
              <a:t>Gt=“mp001” E=“brown fat cell” A=“increased quantity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Osaka"/>
              </a:rPr>
              <a:t>using same mapping as annotation 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Osaka"/>
              </a:rPr>
              <a:t>this organism has_part x, w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Osaka"/>
              </a:rPr>
              <a:t>x instance_of “brown fat cell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Osaka"/>
              </a:rPr>
              <a:t>x has_quality “increased quantity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Osaka"/>
              </a:rPr>
              <a:t>or in natural languag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radley Hand ITC TT-Bold"/>
                <a:ea typeface="Osaka"/>
              </a:rPr>
              <a:t>this organism has a particular brown fat cell which is increased in quant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Osaka"/>
              </a:rPr>
              <a:t>What we really inten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Osaka"/>
              </a:rPr>
              <a:t>this organism has_part population_of(“brown fat cell”) which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Osaka"/>
              </a:rPr>
              <a:t>has_quality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Osaka"/>
              </a:rPr>
              <a:t> increased s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0" name="" descr=""/>
          <p:cNvPicPr/>
          <p:nvPr/>
        </p:nvPicPr>
        <p:blipFill>
          <a:blip r:embed="rId1"/>
          <a:stretch/>
        </p:blipFill>
        <p:spPr>
          <a:xfrm>
            <a:off x="915840" y="1108080"/>
            <a:ext cx="7313760" cy="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Other use case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permatocyte devoid of aster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Homeotic transformation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Increased distance between wing vein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ome </a:t>
            </a:r>
            <a:r>
              <a:rPr b="0" i="1" lang="en-US" sz="3200" spc="-1" strike="noStrike">
                <a:solidFill>
                  <a:srgbClr val="ffffff"/>
                </a:solidFill>
                <a:latin typeface="Century Gothic"/>
              </a:rPr>
              <a:t>vs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. al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793" name="" descr=""/>
          <p:cNvPicPr/>
          <p:nvPr/>
        </p:nvPicPr>
        <p:blipFill>
          <a:blip r:embed="rId1"/>
          <a:stretch/>
        </p:blipFill>
        <p:spPr>
          <a:xfrm>
            <a:off x="915840" y="1542960"/>
            <a:ext cx="7313760" cy="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Alternate perspective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process </a:t>
            </a:r>
            <a:r>
              <a:rPr b="0" i="1" lang="en-US" sz="2000" spc="-1" strike="noStrike">
                <a:solidFill>
                  <a:srgbClr val="ffffff"/>
                </a:solidFill>
                <a:latin typeface="Century Gothic"/>
              </a:rPr>
              <a:t>vs.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stat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regulatory processes: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acidification of midgut has_quality reduced rate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idgut has_quality low acidity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development </a:t>
            </a:r>
            <a:r>
              <a:rPr b="0" i="1" lang="en-US" sz="2000" spc="-1" strike="noStrike">
                <a:solidFill>
                  <a:srgbClr val="ffffff"/>
                </a:solidFill>
                <a:latin typeface="Century Gothic"/>
              </a:rPr>
              <a:t>vs.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behavio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wing development has_quality abnorma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light has_quality intermitten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granularity (scale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hemical </a:t>
            </a:r>
            <a:r>
              <a:rPr b="0" i="1" lang="en-US" sz="1800" spc="-1" strike="noStrike">
                <a:solidFill>
                  <a:srgbClr val="ffffff"/>
                </a:solidFill>
                <a:latin typeface="Century Gothic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. molecular </a:t>
            </a:r>
            <a:r>
              <a:rPr b="0" i="1" lang="en-US" sz="1800" spc="-1" strike="noStrike">
                <a:solidFill>
                  <a:srgbClr val="ffffff"/>
                </a:solidFill>
                <a:latin typeface="Century Gothic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. cell </a:t>
            </a:r>
            <a:r>
              <a:rPr b="0" i="1" lang="en-US" sz="1800" spc="-1" strike="noStrike">
                <a:solidFill>
                  <a:srgbClr val="ffffff"/>
                </a:solidFill>
                <a:latin typeface="Century Gothic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. tissue </a:t>
            </a:r>
            <a:r>
              <a:rPr b="0" i="1" lang="en-US" sz="1800" spc="-1" strike="noStrike">
                <a:solidFill>
                  <a:srgbClr val="ffffff"/>
                </a:solidFill>
                <a:latin typeface="Century Gothic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. anatomical par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796" name="" descr=""/>
          <p:cNvPicPr/>
          <p:nvPr/>
        </p:nvPicPr>
        <p:blipFill>
          <a:blip r:embed="rId1"/>
          <a:stretch/>
        </p:blipFill>
        <p:spPr>
          <a:xfrm>
            <a:off x="915840" y="1542960"/>
            <a:ext cx="7313760" cy="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562720" y="4648320"/>
            <a:ext cx="1371600" cy="533160"/>
          </a:xfrm>
          <a:prstGeom prst="rect">
            <a:avLst/>
          </a:prstGeom>
          <a:solidFill>
            <a:srgbClr val="d1d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y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8120" y="3200400"/>
            <a:ext cx="3124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lvl="1" marL="616680" indent="-237240">
              <a:lnSpc>
                <a:spcPct val="100000"/>
              </a:lnSpc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Osaka"/>
              </a:rPr>
              <a:t>what </a:t>
            </a:r>
            <a:r>
              <a:rPr b="0" i="1" lang="en-US" sz="2800" spc="-1" strike="noStrike">
                <a:solidFill>
                  <a:srgbClr val="ffffff"/>
                </a:solidFill>
                <a:latin typeface="Century Gothic"/>
                <a:ea typeface="Osaka"/>
              </a:rPr>
              <a:t>kinds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Osaka"/>
              </a:rPr>
              <a:t> of things exis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9960" y="4572000"/>
            <a:ext cx="3200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00000"/>
              </a:lnSpc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Osaka"/>
              </a:rPr>
              <a:t>what are the </a:t>
            </a:r>
            <a:r>
              <a:rPr b="0" i="1" lang="en-US" sz="2800" spc="-1" strike="noStrike">
                <a:solidFill>
                  <a:srgbClr val="ffffff"/>
                </a:solidFill>
                <a:latin typeface="Century Gothic"/>
                <a:ea typeface="Osaka"/>
              </a:rPr>
              <a:t>relationships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Osaka"/>
              </a:rPr>
              <a:t> between these thing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105520" y="6095880"/>
            <a:ext cx="2286000" cy="533520"/>
          </a:xfrm>
          <a:prstGeom prst="rect">
            <a:avLst/>
          </a:prstGeom>
          <a:solidFill>
            <a:srgbClr val="d1d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ommatid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400800" y="3314880"/>
            <a:ext cx="2057400" cy="609480"/>
          </a:xfrm>
          <a:prstGeom prst="rect">
            <a:avLst/>
          </a:prstGeom>
          <a:solidFill>
            <a:srgbClr val="d1d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nse org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38480" y="3314880"/>
            <a:ext cx="2057400" cy="609480"/>
          </a:xfrm>
          <a:prstGeom prst="rect">
            <a:avLst/>
          </a:prstGeom>
          <a:solidFill>
            <a:srgbClr val="d1d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ye dis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97560" y="4130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s_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215760" y="53341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part_o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1400" y="4130640"/>
            <a:ext cx="16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develo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52600" y="3200400"/>
            <a:ext cx="2895480" cy="2314440"/>
          </a:xfrm>
          <a:prstGeom prst="rect">
            <a:avLst/>
          </a:prstGeom>
          <a:ln w="0">
            <a:noFill/>
          </a:ln>
        </p:spPr>
      </p:pic>
      <p:cxnSp>
        <p:nvCxnSpPr>
          <p:cNvPr id="190" name=""/>
          <p:cNvCxnSpPr>
            <a:stCxn id="183" idx="0"/>
            <a:endCxn id="180" idx="2"/>
          </p:cNvCxnSpPr>
          <p:nvPr/>
        </p:nvCxnSpPr>
        <p:spPr>
          <a:xfrm flipV="1">
            <a:off x="6248160" y="5181120"/>
            <a:ext cx="1080" cy="915120"/>
          </a:xfrm>
          <a:prstGeom prst="straightConnector1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191" name=""/>
          <p:cNvCxnSpPr>
            <a:stCxn id="180" idx="3"/>
            <a:endCxn id="184" idx="2"/>
          </p:cNvCxnSpPr>
          <p:nvPr/>
        </p:nvCxnSpPr>
        <p:spPr>
          <a:xfrm flipV="1">
            <a:off x="6934320" y="3924000"/>
            <a:ext cx="496080" cy="9914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92" name=""/>
          <p:cNvCxnSpPr>
            <a:stCxn id="180" idx="1"/>
            <a:endCxn id="185" idx="2"/>
          </p:cNvCxnSpPr>
          <p:nvPr/>
        </p:nvCxnSpPr>
        <p:spPr>
          <a:xfrm flipH="1" flipV="1">
            <a:off x="5067000" y="3924000"/>
            <a:ext cx="496080" cy="991440"/>
          </a:xfrm>
          <a:prstGeom prst="straightConnector1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A biological ontology is: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 machine interpretable representation of some aspect of biological reality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5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65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Entity: a definition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nything which exists, including things and processes, functions and qualities, beliefs and actions, software and image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Representation: a definition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An image, idea, map, picture, name, description ... which refers to, or is intended to refer to, some entity or entities in reality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32640" indent="-33264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this ‘or is intended to refer to’ should always be assumed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Century Gothic"/>
              </a:rPr>
              <a:t>Ontologies represent </a:t>
            </a:r>
            <a:r>
              <a:rPr b="1" lang="en-US" sz="4000" spc="-1" strike="noStrike">
                <a:solidFill>
                  <a:srgbClr val="ff8000"/>
                </a:solidFill>
                <a:latin typeface="Century Gothic"/>
              </a:rPr>
              <a:t>types</a:t>
            </a:r>
            <a:r>
              <a:rPr b="0" lang="en-US" sz="4000" spc="-1" strike="noStrike">
                <a:solidFill>
                  <a:srgbClr val="ffcc66"/>
                </a:solidFill>
                <a:latin typeface="Century Gothic"/>
              </a:rPr>
              <a:t> in reality</a:t>
            </a:r>
            <a:endParaRPr b="0" lang="en-US" sz="40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610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533520" y="2819520"/>
            <a:ext cx="8229600" cy="32922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752480" y="4724280"/>
            <a:ext cx="1600200" cy="6858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0" y="2819520"/>
            <a:ext cx="4191120" cy="3276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52920" y="61722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000"/>
                </a:solidFill>
                <a:latin typeface="Century Gothic"/>
              </a:rPr>
              <a:t>ont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044760" y="624852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80"/>
                </a:solidFill>
                <a:latin typeface="Century Gothic"/>
              </a:rPr>
              <a:t>re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Section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Why make an ontology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What is an ontology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How to create an ontology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Logically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echnically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Organizationally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National Center for Biomedical Ontology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ase study: Phenotypes, our current work on OBD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15840" y="1652760"/>
            <a:ext cx="7313760" cy="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5154480" y="3054240"/>
            <a:ext cx="3810240" cy="38102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Scientific data represent </a:t>
            </a:r>
            <a:r>
              <a:rPr b="1" lang="en-US" sz="4400" spc="-1" strike="noStrike">
                <a:solidFill>
                  <a:srgbClr val="ff0080"/>
                </a:solidFill>
                <a:latin typeface="Century Gothic"/>
              </a:rPr>
              <a:t>instances</a:t>
            </a: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 in reality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4738680" y="1952640"/>
          <a:ext cx="3243240" cy="147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38680" y="1952640"/>
                    <a:ext cx="3243240" cy="14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179280" y="3605040"/>
            <a:ext cx="4795920" cy="32529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1162080" y="2057400"/>
            <a:ext cx="24130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Century Gothic"/>
              </a:rPr>
              <a:t>Two kinds of representational artifact</a:t>
            </a:r>
            <a:endParaRPr b="0" lang="en-US" sz="40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Databases, inventories, images: represent what is particular in reality 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= </a:t>
            </a:r>
            <a:r>
              <a:rPr b="1" lang="en-US" sz="3200" spc="-1" strike="noStrike">
                <a:solidFill>
                  <a:srgbClr val="ff0080"/>
                </a:solidFill>
                <a:latin typeface="Century Gothic"/>
              </a:rPr>
              <a:t>instances</a:t>
            </a:r>
            <a:br>
              <a:rPr sz="3200"/>
            </a:br>
            <a:r>
              <a:rPr b="1" lang="en-US" sz="3200" spc="-1" strike="noStrike">
                <a:solidFill>
                  <a:srgbClr val="ff008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35880" indent="-3358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Ontologies, terminologies, catalogs: represent what is general in reality (exists in multiple instances) 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= </a:t>
            </a:r>
            <a:r>
              <a:rPr b="1" lang="en-US" sz="3200" spc="-1" strike="noStrike">
                <a:solidFill>
                  <a:srgbClr val="ff8000"/>
                </a:solidFill>
                <a:latin typeface="Century Gothic"/>
              </a:rPr>
              <a:t>types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 (universals, kinds)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56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Century Gothic"/>
              </a:rPr>
              <a:t>Ontologies are </a:t>
            </a:r>
            <a:r>
              <a:rPr b="1" lang="en-US" sz="4000" spc="-1" strike="noStrike">
                <a:solidFill>
                  <a:srgbClr val="ff0000"/>
                </a:solidFill>
                <a:latin typeface="Century Gothic"/>
              </a:rPr>
              <a:t>not</a:t>
            </a:r>
            <a:r>
              <a:rPr b="0" lang="en-US" sz="4000" spc="-1" strike="noStrike">
                <a:solidFill>
                  <a:srgbClr val="ffcc66"/>
                </a:solidFill>
                <a:latin typeface="Century Gothic"/>
              </a:rPr>
              <a:t> for representing concepts in people’s heads</a:t>
            </a:r>
            <a:endParaRPr b="0" lang="en-US" sz="4000" spc="-1" strike="noStrike">
              <a:solidFill>
                <a:srgbClr val="ffcc66"/>
              </a:solidFill>
              <a:latin typeface="Century Gothic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533520" y="2819520"/>
            <a:ext cx="8229600" cy="32922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533520" y="2819520"/>
            <a:ext cx="8229600" cy="32922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752480" y="4724280"/>
            <a:ext cx="1600200" cy="6858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852920" y="61722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000"/>
                </a:solidFill>
                <a:latin typeface="Century Gothic"/>
              </a:rPr>
              <a:t>ont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901080" y="2286000"/>
            <a:ext cx="1247400" cy="1905120"/>
            <a:chOff x="901080" y="2286000"/>
            <a:chExt cx="1247400" cy="1905120"/>
          </a:xfrm>
        </p:grpSpPr>
        <p:sp>
          <p:nvSpPr>
            <p:cNvPr id="220" name=""/>
            <p:cNvSpPr/>
            <p:nvPr/>
          </p:nvSpPr>
          <p:spPr>
            <a:xfrm>
              <a:off x="914400" y="3048120"/>
              <a:ext cx="1219320" cy="114300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ff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901080" y="228600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80"/>
                  </a:solidFill>
                  <a:latin typeface="Century Gothic"/>
                </a:rPr>
                <a:t>realit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914400" y="3048120"/>
            <a:ext cx="1219320" cy="114300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533520" y="2819520"/>
            <a:ext cx="8229600" cy="329220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3720" y="34560"/>
            <a:ext cx="8839080" cy="22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Century Gothic"/>
              </a:rPr>
              <a:t>The researcher has a </a:t>
            </a:r>
            <a:r>
              <a:rPr b="0" lang="en-US" sz="3600" spc="-1" strike="noStrike">
                <a:solidFill>
                  <a:srgbClr val="66ffff"/>
                </a:solidFill>
                <a:latin typeface="Century Gothic"/>
              </a:rPr>
              <a:t>cognitive</a:t>
            </a:r>
            <a:r>
              <a:rPr b="0" lang="en-US" sz="3600" spc="-1" strike="noStrike">
                <a:solidFill>
                  <a:srgbClr val="ffcc66"/>
                </a:solidFill>
                <a:latin typeface="Century Gothic"/>
              </a:rPr>
              <a:t> </a:t>
            </a:r>
            <a:r>
              <a:rPr b="0" lang="en-US" sz="3600" spc="-1" strike="noStrike">
                <a:solidFill>
                  <a:srgbClr val="66ffff"/>
                </a:solidFill>
                <a:latin typeface="Century Gothic"/>
              </a:rPr>
              <a:t>representation</a:t>
            </a:r>
            <a:r>
              <a:rPr b="0" lang="en-US" sz="3600" spc="-1" strike="noStrike">
                <a:solidFill>
                  <a:srgbClr val="ffcc66"/>
                </a:solidFill>
                <a:latin typeface="Century Gothic"/>
              </a:rPr>
              <a:t> of what is general, based on his knowledge of the science</a:t>
            </a:r>
            <a:endParaRPr b="0" lang="en-US" sz="36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225" name=""/>
          <p:cNvSpPr/>
          <p:nvPr/>
        </p:nvSpPr>
        <p:spPr>
          <a:xfrm>
            <a:off x="1752480" y="4788000"/>
            <a:ext cx="1600200" cy="6858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82720" y="3051000"/>
            <a:ext cx="1218960" cy="11430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852920" y="61246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000"/>
                </a:solidFill>
                <a:latin typeface="Century Gothic"/>
              </a:rPr>
              <a:t>ont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2057400"/>
            <a:ext cx="207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ff"/>
                </a:solidFill>
                <a:latin typeface="Century Gothic"/>
              </a:rPr>
              <a:t>Cognitive represen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066680" y="3886200"/>
            <a:ext cx="381240" cy="533520"/>
          </a:xfrm>
          <a:prstGeom prst="can">
            <a:avLst>
              <a:gd name="adj" fmla="val 25000"/>
            </a:avLst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0" name=""/>
          <p:cNvCxnSpPr>
            <a:stCxn id="229" idx="4"/>
            <a:endCxn id="231" idx="2"/>
          </p:cNvCxnSpPr>
          <p:nvPr/>
        </p:nvCxnSpPr>
        <p:spPr>
          <a:xfrm flipV="1">
            <a:off x="1447920" y="3390120"/>
            <a:ext cx="838800" cy="762840"/>
          </a:xfrm>
          <a:prstGeom prst="straightConnector1">
            <a:avLst/>
          </a:prstGeom>
          <a:ln w="22320">
            <a:solidFill>
              <a:srgbClr val="ff0000"/>
            </a:solidFill>
            <a:miter/>
          </a:ln>
        </p:spPr>
      </p:cxnSp>
      <p:sp>
        <p:nvSpPr>
          <p:cNvPr id="232" name=""/>
          <p:cNvSpPr/>
          <p:nvPr/>
        </p:nvSpPr>
        <p:spPr>
          <a:xfrm>
            <a:off x="687960" y="434196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8000"/>
                </a:solidFill>
                <a:latin typeface="Arial"/>
              </a:rPr>
              <a:t>siame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49560" y="281952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8000"/>
                </a:solidFill>
                <a:latin typeface="Arial"/>
              </a:rPr>
              <a:t>mamm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3048120"/>
            <a:ext cx="380880" cy="533160"/>
          </a:xfrm>
          <a:prstGeom prst="can">
            <a:avLst>
              <a:gd name="adj" fmla="val 25000"/>
            </a:avLst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4" name=""/>
          <p:cNvCxnSpPr>
            <a:stCxn id="231" idx="4"/>
            <a:endCxn id="235" idx="2"/>
          </p:cNvCxnSpPr>
          <p:nvPr/>
        </p:nvCxnSpPr>
        <p:spPr>
          <a:xfrm flipV="1">
            <a:off x="2666520" y="2628360"/>
            <a:ext cx="762840" cy="686520"/>
          </a:xfrm>
          <a:prstGeom prst="straightConnector1">
            <a:avLst/>
          </a:prstGeom>
          <a:ln w="22320">
            <a:solidFill>
              <a:srgbClr val="ff0000"/>
            </a:solidFill>
            <a:miter/>
          </a:ln>
        </p:spPr>
      </p:cxnSp>
      <p:sp>
        <p:nvSpPr>
          <p:cNvPr id="236" name=""/>
          <p:cNvSpPr/>
          <p:nvPr/>
        </p:nvSpPr>
        <p:spPr>
          <a:xfrm>
            <a:off x="2209680" y="3505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8000"/>
                </a:solidFill>
                <a:latin typeface="Arial"/>
              </a:rPr>
              <a:t>c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7" name=""/>
          <p:cNvCxnSpPr>
            <a:stCxn id="238" idx="4"/>
            <a:endCxn id="239" idx="1"/>
          </p:cNvCxnSpPr>
          <p:nvPr/>
        </p:nvCxnSpPr>
        <p:spPr>
          <a:xfrm>
            <a:off x="7238520" y="418680"/>
            <a:ext cx="343800" cy="1639080"/>
          </a:xfrm>
          <a:prstGeom prst="straightConnector1">
            <a:avLst/>
          </a:prstGeom>
          <a:ln w="22320">
            <a:solidFill>
              <a:srgbClr val="ff0000"/>
            </a:solidFill>
            <a:miter/>
          </a:ln>
        </p:spPr>
      </p:cxnSp>
      <p:cxnSp>
        <p:nvCxnSpPr>
          <p:cNvPr id="240" name=""/>
          <p:cNvCxnSpPr>
            <a:stCxn id="241" idx="4"/>
            <a:endCxn id="238" idx="2"/>
          </p:cNvCxnSpPr>
          <p:nvPr/>
        </p:nvCxnSpPr>
        <p:spPr>
          <a:xfrm flipV="1">
            <a:off x="5867280" y="572760"/>
            <a:ext cx="991440" cy="838800"/>
          </a:xfrm>
          <a:prstGeom prst="straightConnector1">
            <a:avLst/>
          </a:prstGeom>
          <a:ln w="22320">
            <a:solidFill>
              <a:srgbClr val="ff0000"/>
            </a:solidFill>
            <a:miter/>
          </a:ln>
        </p:spPr>
      </p:cxnSp>
      <p:sp>
        <p:nvSpPr>
          <p:cNvPr id="242" name=""/>
          <p:cNvSpPr/>
          <p:nvPr/>
        </p:nvSpPr>
        <p:spPr>
          <a:xfrm>
            <a:off x="5107680" y="152388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8000"/>
                </a:solidFill>
                <a:latin typeface="Arial"/>
              </a:rPr>
              <a:t>organ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486400" y="1144440"/>
            <a:ext cx="380880" cy="533520"/>
          </a:xfrm>
          <a:prstGeom prst="can">
            <a:avLst>
              <a:gd name="adj" fmla="val 25000"/>
            </a:avLst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0" y="152280"/>
            <a:ext cx="380880" cy="533520"/>
          </a:xfrm>
          <a:prstGeom prst="can">
            <a:avLst>
              <a:gd name="adj" fmla="val 25000"/>
            </a:avLst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248520" y="609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8000"/>
                </a:solidFill>
                <a:latin typeface="Arial"/>
              </a:rPr>
              <a:t>subst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391520" y="2057400"/>
            <a:ext cx="380880" cy="533520"/>
          </a:xfrm>
          <a:prstGeom prst="can">
            <a:avLst>
              <a:gd name="adj" fmla="val 25000"/>
            </a:avLst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248520" y="3657600"/>
            <a:ext cx="380880" cy="533520"/>
          </a:xfrm>
          <a:prstGeom prst="can">
            <a:avLst>
              <a:gd name="adj" fmla="val 25000"/>
            </a:avLst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153280" y="3733920"/>
            <a:ext cx="381240" cy="533160"/>
          </a:xfrm>
          <a:prstGeom prst="can">
            <a:avLst>
              <a:gd name="adj" fmla="val 25000"/>
            </a:avLst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6" name=""/>
          <p:cNvCxnSpPr>
            <a:stCxn id="247" idx="0"/>
            <a:endCxn id="244" idx="1"/>
          </p:cNvCxnSpPr>
          <p:nvPr/>
        </p:nvCxnSpPr>
        <p:spPr>
          <a:xfrm>
            <a:off x="4788000" y="2171520"/>
            <a:ext cx="1651680" cy="1486440"/>
          </a:xfrm>
          <a:prstGeom prst="straightConnector1">
            <a:avLst/>
          </a:prstGeom>
          <a:ln w="25560">
            <a:solidFill>
              <a:srgbClr val="ff0000"/>
            </a:solidFill>
            <a:miter/>
          </a:ln>
        </p:spPr>
      </p:cxnSp>
      <p:cxnSp>
        <p:nvCxnSpPr>
          <p:cNvPr id="248" name=""/>
          <p:cNvCxnSpPr>
            <a:stCxn id="239" idx="4"/>
            <a:endCxn id="245" idx="1"/>
          </p:cNvCxnSpPr>
          <p:nvPr/>
        </p:nvCxnSpPr>
        <p:spPr>
          <a:xfrm>
            <a:off x="7772400" y="2324160"/>
            <a:ext cx="572400" cy="1410480"/>
          </a:xfrm>
          <a:prstGeom prst="straightConnector1">
            <a:avLst/>
          </a:prstGeom>
          <a:ln w="22320">
            <a:solidFill>
              <a:srgbClr val="ff0000"/>
            </a:solidFill>
            <a:miter/>
          </a:ln>
        </p:spPr>
      </p:cxnSp>
      <p:sp>
        <p:nvSpPr>
          <p:cNvPr id="235" name=""/>
          <p:cNvSpPr/>
          <p:nvPr/>
        </p:nvSpPr>
        <p:spPr>
          <a:xfrm>
            <a:off x="3429000" y="2362320"/>
            <a:ext cx="380880" cy="533160"/>
          </a:xfrm>
          <a:prstGeom prst="can">
            <a:avLst>
              <a:gd name="adj" fmla="val 25000"/>
            </a:avLst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191880"/>
            <a:ext cx="259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8000"/>
                </a:solidFill>
                <a:latin typeface="Century Gothic"/>
              </a:rPr>
              <a:t>type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1754280"/>
            <a:ext cx="381240" cy="488880"/>
          </a:xfrm>
          <a:prstGeom prst="can">
            <a:avLst>
              <a:gd name="adj" fmla="val 25000"/>
            </a:avLst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1" name=""/>
          <p:cNvCxnSpPr>
            <a:stCxn id="250" idx="4"/>
          </p:cNvCxnSpPr>
          <p:nvPr/>
        </p:nvCxnSpPr>
        <p:spPr>
          <a:xfrm flipV="1">
            <a:off x="4876560" y="1410840"/>
            <a:ext cx="610200" cy="588240"/>
          </a:xfrm>
          <a:prstGeom prst="straightConnector1">
            <a:avLst/>
          </a:prstGeom>
          <a:ln w="22320">
            <a:solidFill>
              <a:srgbClr val="ff0000"/>
            </a:solidFill>
            <a:miter/>
          </a:ln>
        </p:spPr>
      </p:cxnSp>
      <p:sp>
        <p:nvSpPr>
          <p:cNvPr id="247" name=""/>
          <p:cNvSpPr/>
          <p:nvPr/>
        </p:nvSpPr>
        <p:spPr>
          <a:xfrm>
            <a:off x="4249440" y="217188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8000"/>
                </a:solidFill>
                <a:latin typeface="Arial"/>
              </a:rPr>
              <a:t>anim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2" name=""/>
          <p:cNvCxnSpPr>
            <a:endCxn id="250" idx="2"/>
          </p:cNvCxnSpPr>
          <p:nvPr/>
        </p:nvCxnSpPr>
        <p:spPr>
          <a:xfrm flipV="1">
            <a:off x="3809520" y="1998000"/>
            <a:ext cx="686520" cy="631080"/>
          </a:xfrm>
          <a:prstGeom prst="straightConnector1">
            <a:avLst/>
          </a:prstGeom>
          <a:ln w="22320">
            <a:solidFill>
              <a:srgbClr val="ff0000"/>
            </a:solidFill>
            <a:miter/>
          </a:ln>
        </p:spPr>
      </p:cxnSp>
      <p:sp>
        <p:nvSpPr>
          <p:cNvPr id="253" name=""/>
          <p:cNvSpPr/>
          <p:nvPr/>
        </p:nvSpPr>
        <p:spPr>
          <a:xfrm>
            <a:off x="0" y="5029200"/>
            <a:ext cx="9144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10920" y="5403960"/>
            <a:ext cx="275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0080"/>
                </a:solidFill>
                <a:latin typeface="Arial"/>
              </a:rPr>
              <a:t>insta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3733920" y="5410080"/>
            <a:ext cx="838080" cy="8096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5791320" y="5438880"/>
            <a:ext cx="838080" cy="80964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4724280" y="5410080"/>
            <a:ext cx="838440" cy="8096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4"/>
          <a:stretch/>
        </p:blipFill>
        <p:spPr>
          <a:xfrm>
            <a:off x="8077320" y="5410080"/>
            <a:ext cx="838080" cy="80964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5"/>
          <a:stretch/>
        </p:blipFill>
        <p:spPr>
          <a:xfrm>
            <a:off x="6934320" y="5438880"/>
            <a:ext cx="838080" cy="8096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383800">
            <a:off x="5984280" y="2249280"/>
            <a:ext cx="912960" cy="5100840"/>
          </a:xfrm>
          <a:custGeom>
            <a:avLst/>
            <a:gdLst>
              <a:gd name="textAreaLeft" fmla="*/ 583200 w 912960"/>
              <a:gd name="textAreaRight" fmla="*/ 913320 w 912960"/>
              <a:gd name="textAreaTop" fmla="*/ 132840 h 5100840"/>
              <a:gd name="textAreaBottom" fmla="*/ 4968000 h 5100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686b5d">
              <a:alpha val="50000"/>
            </a:srgbClr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478560" y="41148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8000"/>
                </a:solidFill>
                <a:latin typeface="Arial"/>
              </a:rPr>
              <a:t>fr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6320" y="53316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Century Gothic"/>
              </a:rPr>
              <a:t>An ontology is like a scientific text;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Century Gothic"/>
              </a:rPr>
              <a:t>it is a representation of types in reality</a:t>
            </a:r>
            <a:endParaRPr b="0" lang="en-US" sz="36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610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533520" y="2819520"/>
            <a:ext cx="8229600" cy="329220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990720" y="4788000"/>
            <a:ext cx="3114720" cy="2345400"/>
            <a:chOff x="990720" y="4788000"/>
            <a:chExt cx="3114720" cy="2345400"/>
          </a:xfrm>
        </p:grpSpPr>
        <p:sp>
          <p:nvSpPr>
            <p:cNvPr id="266" name=""/>
            <p:cNvSpPr/>
            <p:nvPr/>
          </p:nvSpPr>
          <p:spPr>
            <a:xfrm>
              <a:off x="1747800" y="4788000"/>
              <a:ext cx="1600200" cy="68580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90720" y="6124680"/>
              <a:ext cx="3114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8000"/>
                  </a:solidFill>
                  <a:latin typeface="Century Gothic"/>
                </a:rPr>
                <a:t>Ontology = a representation of typ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457200" y="2057400"/>
            <a:ext cx="2070000" cy="2136600"/>
            <a:chOff x="457200" y="2057400"/>
            <a:chExt cx="2070000" cy="2136600"/>
          </a:xfrm>
        </p:grpSpPr>
        <p:sp>
          <p:nvSpPr>
            <p:cNvPr id="269" name=""/>
            <p:cNvSpPr/>
            <p:nvPr/>
          </p:nvSpPr>
          <p:spPr>
            <a:xfrm>
              <a:off x="882720" y="3051000"/>
              <a:ext cx="1218960" cy="114300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7200" y="2057400"/>
              <a:ext cx="2070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ffff"/>
                  </a:solidFill>
                  <a:latin typeface="Century Gothic"/>
                </a:rPr>
                <a:t>Cognitive representa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3123720" y="2819520"/>
            <a:ext cx="5639400" cy="3827880"/>
            <a:chOff x="3123720" y="2819520"/>
            <a:chExt cx="5639400" cy="3827880"/>
          </a:xfrm>
        </p:grpSpPr>
        <p:sp>
          <p:nvSpPr>
            <p:cNvPr id="272" name=""/>
            <p:cNvSpPr/>
            <p:nvPr/>
          </p:nvSpPr>
          <p:spPr>
            <a:xfrm>
              <a:off x="4572000" y="2819520"/>
              <a:ext cx="4191120" cy="327636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ff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044760" y="624852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80"/>
                  </a:solidFill>
                  <a:latin typeface="Century Gothic"/>
                </a:rPr>
                <a:t>realit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3123720" y="4419720"/>
              <a:ext cx="1752840" cy="609480"/>
            </a:xfrm>
            <a:prstGeom prst="line">
              <a:avLst/>
            </a:prstGeom>
            <a:ln w="127080">
              <a:solidFill>
                <a:srgbClr val="ff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Atomic representational unit: a definition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5280" indent="-4852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erms, icons, bar codes, alphanumeric identifiers ... which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831960" indent="-415800">
              <a:spcBef>
                <a:spcPts val="601"/>
              </a:spcBef>
              <a:buClr>
                <a:srgbClr val="ff3e3e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refer, or are intended to refer, to entities in reality, and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31960" indent="-415800">
              <a:spcBef>
                <a:spcPts val="601"/>
              </a:spcBef>
              <a:buClr>
                <a:srgbClr val="ff3e3e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re not built out of further sub-representation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8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85280" indent="-4852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Representational units are the </a:t>
            </a:r>
            <a:r>
              <a:rPr b="1" lang="en-US" sz="3200" spc="-1" strike="noStrike">
                <a:solidFill>
                  <a:srgbClr val="ff0000"/>
                </a:solidFill>
                <a:latin typeface="Century Gothic"/>
              </a:rPr>
              <a:t>atoms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 in the domain of representation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Modular representational unit: a definition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 representation which is built out of other representational units, which together form a structure that mirrors a corresponding structure in reality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35600" cy="567540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2"/>
          <a:srcRect l="0" t="2707" r="0" b="3758"/>
          <a:stretch/>
        </p:blipFill>
        <p:spPr>
          <a:xfrm>
            <a:off x="762120" y="723960"/>
            <a:ext cx="7772400" cy="560052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686b5d"/>
                </a:solidFill>
                <a:latin typeface="Century Gothic"/>
              </a:rPr>
              <a:t>Periodic Table</a:t>
            </a:r>
            <a:endParaRPr b="0" lang="en-US" sz="9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282" name=""/>
          <p:cNvSpPr/>
          <p:nvPr/>
        </p:nvSpPr>
        <p:spPr>
          <a:xfrm>
            <a:off x="2684880" y="49320"/>
            <a:ext cx="37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9dcb9"/>
                </a:solidFill>
                <a:latin typeface="Arial"/>
              </a:rPr>
              <a:t>The Periodic 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Century Gothic"/>
              </a:rPr>
              <a:t>Ontology: a definition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-501480">
              <a:lnSpc>
                <a:spcPct val="90000"/>
              </a:lnSpc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A modular, representational artifact whose representational units 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re intended to represen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59320" indent="-429480">
              <a:lnSpc>
                <a:spcPct val="90000"/>
              </a:lnSpc>
              <a:spcBef>
                <a:spcPts val="700"/>
              </a:spcBef>
              <a:buClr>
                <a:srgbClr val="ff3e3e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ypes in reality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859320" indent="-429480">
              <a:lnSpc>
                <a:spcPct val="90000"/>
              </a:lnSpc>
              <a:spcBef>
                <a:spcPts val="700"/>
              </a:spcBef>
              <a:buClr>
                <a:srgbClr val="ff3e3e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 relations between these types which are true universally (</a:t>
            </a:r>
            <a:r>
              <a:rPr b="0" i="1" lang="en-US" sz="2800" spc="-1" strike="noStrike">
                <a:solidFill>
                  <a:srgbClr val="ffffff"/>
                </a:solidFill>
                <a:latin typeface="Century Gothic"/>
              </a:rPr>
              <a:t>i.e.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for all instances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7520" indent="-357840">
              <a:lnSpc>
                <a:spcPct val="90000"/>
              </a:lnSpc>
              <a:spcBef>
                <a:spcPts val="601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lung is_a anatomical structur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217520" indent="-357840">
              <a:lnSpc>
                <a:spcPct val="90000"/>
              </a:lnSpc>
              <a:spcBef>
                <a:spcPts val="601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lobe of lung part_of lu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864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Century Gothic"/>
              </a:rPr>
              <a:t>Why make an ontology?</a:t>
            </a:r>
            <a:endParaRPr b="0" lang="en-US" sz="40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hat is the motivation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15840" y="1652760"/>
            <a:ext cx="7313760" cy="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915840" y="1652760"/>
            <a:ext cx="7313760" cy="8244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How to create an ontology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Part 1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e logic and scienc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560" y="609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In computer science, there is an information handling problem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Different groups of data-gatherers develop their own idiosyncratic terms in which they represent information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o put this information together, methods must be found to resolve terminological and conceptual incompatibilities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gain, and again, and again…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66"/>
                </a:solidFill>
                <a:latin typeface="Century Gothic"/>
              </a:rPr>
              <a:t>The Reality</a:t>
            </a:r>
            <a:endParaRPr b="0" lang="en-US" sz="66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Do not assume that data integration can be brought about by somehow ‘mapping’ incompatible, low quality ontologies built for different purpose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915840" y="1652760"/>
            <a:ext cx="7313760" cy="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Two flavors of ontology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ffcc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pplication ontology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799"/>
              </a:spcBef>
              <a:buClr>
                <a:srgbClr val="66ffcc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Reference ontology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Application Ontology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n </a:t>
            </a:r>
            <a:r>
              <a:rPr b="1" lang="en-US" sz="3200" spc="-1" strike="noStrike">
                <a:solidFill>
                  <a:srgbClr val="66ffff"/>
                </a:solidFill>
                <a:latin typeface="Century Gothic"/>
              </a:rPr>
              <a:t>application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ontology is comparable to an engineering artifact such as a software tool. It is constructed for specific practical purposes.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Reference Ontology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 </a:t>
            </a:r>
            <a:r>
              <a:rPr b="1" lang="en-US" sz="3200" spc="-1" strike="noStrike">
                <a:solidFill>
                  <a:srgbClr val="66ffff"/>
                </a:solidFill>
                <a:latin typeface="Century Gothic"/>
              </a:rPr>
              <a:t>reference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ontology is analogous to a scientific theory; it seeks to optimize representational adequacy to its subject matter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Assumption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re are best practices in ontology development which should be followed to create stable high-quality ontologie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hared high quality ontologies foster cross-disciplinary and cross-domain re-use of data, and create larger communiti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40" y="-210960"/>
            <a:ext cx="91440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Why do we need rules/standards for good ontology?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53720" y="1685520"/>
            <a:ext cx="8839080" cy="64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Ontologies must be intelligible both to humans (for annotation) and to machines (for reasoning and error-checking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Unintuitive rules lead to errors in classification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imple, intuitive rules facilitate training of curators and annotator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ommon rules allow alignment with other ontologies (and thus cross-domain exploitation of data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Logically coherent rules enhance harvesting of content through automatic reasoning system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40" y="677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Ontologies built according to common logically coherent rule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2500200"/>
            <a:ext cx="7772400" cy="36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Will make entry easier and yield a safer growth path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You can start small, annotating your data with initial fragments of a well-founded ontology, confident that the results will still be usable when the ontology grows larger and richer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OBO Foundry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77400" y="2160360"/>
            <a:ext cx="8991720" cy="49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 subset of OBO ontologies whose developers agree in advance to accept a common set of principles designed to assure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5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ntelligibility to biologist curators, annotators, user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ormal robustness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tability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ompatibility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nteroperability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upport for logic-based reasoni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7" name=""/>
          <p:cNvSpPr/>
          <p:nvPr/>
        </p:nvSpPr>
        <p:spPr>
          <a:xfrm>
            <a:off x="1854000" y="518040"/>
            <a:ext cx="5465520" cy="101844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pperplate Gothic Bold"/>
              </a:rPr>
              <a:t>The OBO Found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The Problem(s) with data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Inaccessibility of widely distributed data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18960" indent="-31896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Over abundance of information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18960" indent="-31896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peed and performanc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18960" indent="-31896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Interpreting the data syntactically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18960" indent="-31896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Interpreting the data semantically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534600" y="1968480"/>
            <a:ext cx="8077320" cy="551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66ffcc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ontology is </a:t>
            </a:r>
            <a:r>
              <a:rPr b="0" lang="en-US" sz="2400" spc="-1" strike="noStrike">
                <a:solidFill>
                  <a:srgbClr val="80ff00"/>
                </a:solidFill>
                <a:latin typeface="Century Gothic"/>
              </a:rPr>
              <a:t>open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and available to be used by all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33520" indent="-533520">
              <a:spcBef>
                <a:spcPts val="601"/>
              </a:spcBef>
              <a:buClr>
                <a:srgbClr val="66ffcc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developers of the ontology agree in advance to </a:t>
            </a:r>
            <a:r>
              <a:rPr b="0" lang="en-US" sz="2400" spc="-1" strike="noStrike">
                <a:solidFill>
                  <a:srgbClr val="80ff00"/>
                </a:solidFill>
                <a:latin typeface="Century Gothic"/>
              </a:rPr>
              <a:t>collaborate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with developers of other OBO Foundry ontology where domains overlap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33520" indent="-533520">
              <a:spcBef>
                <a:spcPts val="601"/>
              </a:spcBef>
              <a:buClr>
                <a:srgbClr val="66ffcc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ontology is in, or can be instantiated in, a </a:t>
            </a:r>
            <a:r>
              <a:rPr b="0" lang="en-US" sz="2400" spc="-1" strike="noStrike">
                <a:solidFill>
                  <a:srgbClr val="80ff00"/>
                </a:solidFill>
                <a:latin typeface="Century Gothic"/>
              </a:rPr>
              <a:t>common formal language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33520" indent="-533520">
              <a:spcBef>
                <a:spcPts val="601"/>
              </a:spcBef>
              <a:buClr>
                <a:srgbClr val="66ffcc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ontology possesses a </a:t>
            </a:r>
            <a:r>
              <a:rPr b="0" lang="en-US" sz="2400" spc="-1" strike="noStrike">
                <a:solidFill>
                  <a:srgbClr val="80ff00"/>
                </a:solidFill>
                <a:latin typeface="Century Gothic"/>
              </a:rPr>
              <a:t>unique identifier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pace within OBO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33520" indent="-533520">
              <a:spcBef>
                <a:spcPts val="601"/>
              </a:spcBef>
              <a:buClr>
                <a:srgbClr val="66ffcc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ontology provider has procedures for identifying distinct successive </a:t>
            </a:r>
            <a:r>
              <a:rPr b="0" lang="en-US" sz="2400" spc="-1" strike="noStrike">
                <a:solidFill>
                  <a:srgbClr val="80ff00"/>
                </a:solidFill>
                <a:latin typeface="Century Gothic"/>
              </a:rPr>
              <a:t>versions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. 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9" name=""/>
          <p:cNvSpPr/>
          <p:nvPr/>
        </p:nvSpPr>
        <p:spPr>
          <a:xfrm>
            <a:off x="1873080" y="473400"/>
            <a:ext cx="5465520" cy="101844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pperplate Gothic Bold"/>
              </a:rPr>
              <a:t>The OBO Found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687240" y="1968480"/>
            <a:ext cx="77724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66ffcc"/>
              </a:buClr>
              <a:buFont typeface="Century Gothic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ontology has a clearly specified and </a:t>
            </a:r>
            <a:r>
              <a:rPr b="0" lang="en-US" sz="2400" spc="-1" strike="noStrike">
                <a:solidFill>
                  <a:srgbClr val="80ff00"/>
                </a:solidFill>
                <a:latin typeface="Century Gothic"/>
              </a:rPr>
              <a:t>clearly delineated content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33520" indent="-533520">
              <a:spcBef>
                <a:spcPts val="601"/>
              </a:spcBef>
              <a:buClr>
                <a:srgbClr val="66ffcc"/>
              </a:buClr>
              <a:buFont typeface="Century Gothic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ontology includes </a:t>
            </a:r>
            <a:r>
              <a:rPr b="0" lang="en-US" sz="2400" spc="-1" strike="noStrike">
                <a:solidFill>
                  <a:srgbClr val="80ff00"/>
                </a:solidFill>
                <a:latin typeface="Century Gothic"/>
              </a:rPr>
              <a:t>textual definitions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or all terms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33520" indent="-533520">
              <a:spcBef>
                <a:spcPts val="601"/>
              </a:spcBef>
              <a:buClr>
                <a:srgbClr val="66ffcc"/>
              </a:buClr>
              <a:buFont typeface="Century Gothic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ontology is </a:t>
            </a:r>
            <a:r>
              <a:rPr b="0" lang="en-US" sz="2400" spc="-1" strike="noStrike">
                <a:solidFill>
                  <a:srgbClr val="80ff00"/>
                </a:solidFill>
                <a:latin typeface="Century Gothic"/>
              </a:rPr>
              <a:t>well-documented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33520" indent="-533520">
              <a:spcBef>
                <a:spcPts val="601"/>
              </a:spcBef>
              <a:buClr>
                <a:srgbClr val="66ffcc"/>
              </a:buClr>
              <a:buFont typeface="Century Gothic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ontology has a plurality of independent </a:t>
            </a:r>
            <a:r>
              <a:rPr b="0" lang="en-US" sz="2400" spc="-1" strike="noStrike">
                <a:solidFill>
                  <a:srgbClr val="80ff00"/>
                </a:solidFill>
                <a:latin typeface="Century Gothic"/>
              </a:rPr>
              <a:t>users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33520" indent="-533520">
              <a:spcBef>
                <a:spcPts val="601"/>
              </a:spcBef>
              <a:buClr>
                <a:srgbClr val="66ffcc"/>
              </a:buClr>
              <a:buFont typeface="Century Gothic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ontology uses relations which are unambiguously defined following the pattern of definitions laid down in the </a:t>
            </a:r>
            <a:r>
              <a:rPr b="0" lang="en-US" sz="2400" spc="-1" strike="noStrike">
                <a:solidFill>
                  <a:srgbClr val="80ff00"/>
                </a:solidFill>
                <a:latin typeface="Century Gothic"/>
              </a:rPr>
              <a:t>OBO Relation Ontology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1" name=""/>
          <p:cNvSpPr/>
          <p:nvPr/>
        </p:nvSpPr>
        <p:spPr>
          <a:xfrm>
            <a:off x="1873080" y="473400"/>
            <a:ext cx="5465520" cy="101844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pperplate Gothic Bold"/>
              </a:rPr>
              <a:t>The OBO Found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Orthogonality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Ontology groups who choose to be part of the OBO Foundry thereby </a:t>
            </a:r>
            <a:r>
              <a:rPr b="0" lang="en-US" sz="3200" spc="-1" strike="noStrike">
                <a:solidFill>
                  <a:srgbClr val="80ff00"/>
                </a:solidFill>
                <a:latin typeface="Century Gothic"/>
              </a:rPr>
              <a:t>commit themselves to collaborating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to resolve disagreements which arise where their respective domains overlap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" name=""/>
          <p:cNvSpPr/>
          <p:nvPr/>
        </p:nvSpPr>
        <p:spPr>
          <a:xfrm>
            <a:off x="2181600" y="518040"/>
            <a:ext cx="4794840" cy="101844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pperplate Gothic Bold"/>
              </a:rPr>
              <a:t>Orthogona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 success of ontology alignment demands that ontological relations (</a:t>
            </a:r>
            <a:r>
              <a:rPr b="0" i="1" lang="en-US" sz="2800" spc="-1" strike="noStrike">
                <a:solidFill>
                  <a:srgbClr val="ffffff"/>
                </a:solidFill>
                <a:latin typeface="Century Gothic"/>
              </a:rPr>
              <a:t>is_a, part_of, ...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) have the same meanings in the different ontologies to be aligned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ee “</a:t>
            </a:r>
            <a:r>
              <a:rPr b="0" lang="en-US" sz="2800" spc="-1" strike="noStrike">
                <a:solidFill>
                  <a:srgbClr val="80ff00"/>
                </a:solidFill>
                <a:latin typeface="Century Gothic"/>
              </a:rPr>
              <a:t>Relations in Biomedical Ontologies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”, Genome Biology May 2005, Barry Smith , Werner Ceusters, Bert Klagges, Jacob Köhler, Anand Kumar, Jane Lomax, Chris Mungall, Fabian Neuhaus, Alan L Rector,  and Cornelius Ross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" name=""/>
          <p:cNvSpPr/>
          <p:nvPr/>
        </p:nvSpPr>
        <p:spPr>
          <a:xfrm>
            <a:off x="838080" y="518040"/>
            <a:ext cx="7470720" cy="101844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pperplate Gothic Bold"/>
              </a:rPr>
              <a:t>agreed on rel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9304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Century Gothic"/>
              </a:rPr>
              <a:t>Three fundamental dichotomies</a:t>
            </a:r>
            <a:endParaRPr b="0" lang="en-US" sz="40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72760" y="1898280"/>
            <a:ext cx="800244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85760" indent="0" algn="ctr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ontinuants vs. occurrent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lvl="2" marL="1085760" indent="0" algn="ctr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dependent vs. independent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lvl="2" marL="1085760" indent="0" algn="ctr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types vs. instance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" name=""/>
          <p:cNvSpPr/>
          <p:nvPr/>
        </p:nvSpPr>
        <p:spPr>
          <a:xfrm>
            <a:off x="496800" y="3930480"/>
            <a:ext cx="8153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ONTOLOGIES ARE REPRESENTATIVES OF TYP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IN REA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For example in the GO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ff00"/>
                </a:solidFill>
                <a:latin typeface="Century Gothic"/>
              </a:rPr>
              <a:t>Molecules, cell components , organisms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are independent continuants which have function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ff00"/>
                </a:solidFill>
                <a:latin typeface="Century Gothic"/>
              </a:rPr>
              <a:t>Functions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are dependent continuants which become realized through special sorts of processes we call functioning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ff00"/>
                </a:solidFill>
                <a:latin typeface="Century Gothic"/>
              </a:rPr>
              <a:t>Processes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are occurrents include: functionings, side-effects, stochastic processe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460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Century Gothic"/>
              </a:rPr>
              <a:t>Continuants (aka endurants)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entury Gothic"/>
              </a:rPr>
              <a:t>have continuous existence in tim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entury Gothic"/>
              </a:rPr>
              <a:t>preserve their identity through chang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entury Gothic"/>
              </a:rPr>
              <a:t>exist in toto whenever they exist at al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c66"/>
                </a:solidFill>
                <a:latin typeface="Century Gothic"/>
              </a:rPr>
              <a:t>Occurrents (aka processes)</a:t>
            </a:r>
            <a:endParaRPr b="0" lang="en-US" sz="40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entury Gothic"/>
              </a:rPr>
              <a:t>have temporal part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entury Gothic"/>
              </a:rPr>
              <a:t>unfold themselves in successive phase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exist only in their phase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Continuants vs. Occurrent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natomy vs. Physiology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napshot vs. Video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tocks vs. Flow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ommodities vs. Service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Products vs. Processe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Dependent entitie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2747880"/>
            <a:ext cx="7772400" cy="33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require independent continuants as their bearer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ere is no grin without a c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We started the GO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o develop a shared language adequate for the annotation of molecular characteristics across organisms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o agree on a mutual understanding of the definition and meaning of any word used. and thus to support cross-database queries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o provide database access via these common terms to gene product annotations and associated sequence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Dependent vs. independent continuant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Independent continuants (organisms, cells, molecules, environments)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32640" indent="-33264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Dependent continuants (qualities, shapes, roles, propensities, functions)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20720" indent="-277200"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E.g. the </a:t>
            </a:r>
            <a:r>
              <a:rPr b="0" lang="en-US" sz="2800" spc="-1" strike="noStrike">
                <a:solidFill>
                  <a:srgbClr val="80ff00"/>
                </a:solidFill>
                <a:latin typeface="Century Gothic"/>
              </a:rPr>
              <a:t>acidity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of this gu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Century Gothic"/>
              </a:rPr>
              <a:t>All occurrents are dependent entities</a:t>
            </a:r>
            <a:endParaRPr b="0" lang="en-US" sz="40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469960"/>
            <a:ext cx="7772400" cy="36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ey are dependent on those independent continuants which are their participants (agents, patients, media ...)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GO’s three ontologie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"/>
          <p:cNvSpPr/>
          <p:nvPr/>
        </p:nvSpPr>
        <p:spPr>
          <a:xfrm>
            <a:off x="412920" y="1447920"/>
            <a:ext cx="2145960" cy="2333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lecular 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271680" y="3962520"/>
            <a:ext cx="2602080" cy="2332080"/>
          </a:xfrm>
          <a:prstGeom prst="ellipse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ellular compon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361200" y="1371600"/>
            <a:ext cx="2369880" cy="2486160"/>
          </a:xfrm>
          <a:prstGeom prst="ellipse">
            <a:avLst/>
          </a:prstGeom>
          <a:solidFill>
            <a:srgbClr val="8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ological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1066680" y="2386080"/>
            <a:ext cx="7848720" cy="2974320"/>
            <a:chOff x="1066680" y="2386080"/>
            <a:chExt cx="7848720" cy="2974320"/>
          </a:xfrm>
        </p:grpSpPr>
        <p:sp>
          <p:nvSpPr>
            <p:cNvPr id="340" name=""/>
            <p:cNvSpPr/>
            <p:nvPr/>
          </p:nvSpPr>
          <p:spPr>
            <a:xfrm>
              <a:off x="3087720" y="238608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dependen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943600" y="490068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independen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1066680" y="3428640"/>
              <a:ext cx="3505320" cy="1523880"/>
            </a:xfrm>
            <a:prstGeom prst="line">
              <a:avLst/>
            </a:prstGeom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 flipV="1">
              <a:off x="4571640" y="3428640"/>
              <a:ext cx="3429000" cy="1219320"/>
            </a:xfrm>
            <a:prstGeom prst="line">
              <a:avLst/>
            </a:prstGeom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1219320" y="1295280"/>
            <a:ext cx="6933960" cy="4190760"/>
            <a:chOff x="1219320" y="1295280"/>
            <a:chExt cx="6933960" cy="4190760"/>
          </a:xfrm>
        </p:grpSpPr>
        <p:sp>
          <p:nvSpPr>
            <p:cNvPr id="345" name=""/>
            <p:cNvSpPr/>
            <p:nvPr/>
          </p:nvSpPr>
          <p:spPr>
            <a:xfrm>
              <a:off x="1219320" y="426708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tinuan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029200" y="14479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occuren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572000" y="1295280"/>
              <a:ext cx="0" cy="2133720"/>
            </a:xfrm>
            <a:prstGeom prst="line">
              <a:avLst/>
            </a:prstGeom>
            <a:ln w="572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 flipV="1">
              <a:off x="4572000" y="3428640"/>
              <a:ext cx="3581280" cy="2057400"/>
            </a:xfrm>
            <a:prstGeom prst="line">
              <a:avLst/>
            </a:prstGeom>
            <a:ln w="572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812880" y="2523960"/>
            <a:ext cx="7416720" cy="1810080"/>
            <a:chOff x="812880" y="2523960"/>
            <a:chExt cx="7416720" cy="1810080"/>
          </a:xfrm>
        </p:grpSpPr>
        <p:sp>
          <p:nvSpPr>
            <p:cNvPr id="350" name=""/>
            <p:cNvSpPr/>
            <p:nvPr/>
          </p:nvSpPr>
          <p:spPr>
            <a:xfrm>
              <a:off x="812880" y="2523960"/>
              <a:ext cx="1820880" cy="1808280"/>
            </a:xfrm>
            <a:prstGeom prst="ellipse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lecular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656160" y="2523960"/>
              <a:ext cx="1834920" cy="180828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llul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442200" y="2523960"/>
              <a:ext cx="1787400" cy="1810080"/>
            </a:xfrm>
            <a:prstGeom prst="ellipse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ganism-leve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ological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t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808200" y="4692600"/>
            <a:ext cx="7414920" cy="1808280"/>
            <a:chOff x="808200" y="4692600"/>
            <a:chExt cx="7414920" cy="1808280"/>
          </a:xfrm>
        </p:grpSpPr>
        <p:sp>
          <p:nvSpPr>
            <p:cNvPr id="354" name=""/>
            <p:cNvSpPr/>
            <p:nvPr/>
          </p:nvSpPr>
          <p:spPr>
            <a:xfrm>
              <a:off x="808200" y="4692600"/>
              <a:ext cx="1828800" cy="1808280"/>
            </a:xfrm>
            <a:prstGeom prst="ellipse">
              <a:avLst/>
            </a:prstGeom>
            <a:solidFill>
              <a:srgbClr val="66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lecul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583080" y="4692600"/>
              <a:ext cx="1981080" cy="1808280"/>
            </a:xfrm>
            <a:prstGeom prst="ellipse">
              <a:avLst/>
            </a:prstGeom>
            <a:solidFill>
              <a:srgbClr val="66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llular componen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448320" y="4692600"/>
              <a:ext cx="1774800" cy="1808280"/>
            </a:xfrm>
            <a:prstGeom prst="ellipse">
              <a:avLst/>
            </a:prstGeom>
            <a:solidFill>
              <a:srgbClr val="66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ganis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816120" y="357120"/>
            <a:ext cx="7402320" cy="1809720"/>
            <a:chOff x="816120" y="357120"/>
            <a:chExt cx="7402320" cy="1809720"/>
          </a:xfrm>
        </p:grpSpPr>
        <p:sp>
          <p:nvSpPr>
            <p:cNvPr id="358" name=""/>
            <p:cNvSpPr/>
            <p:nvPr/>
          </p:nvSpPr>
          <p:spPr>
            <a:xfrm>
              <a:off x="816120" y="357120"/>
              <a:ext cx="1814400" cy="1808280"/>
            </a:xfrm>
            <a:prstGeom prst="ellipse">
              <a:avLst/>
            </a:prstGeom>
            <a:solidFill>
              <a:srgbClr val="8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lecular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625920" y="357120"/>
              <a:ext cx="1893960" cy="1808280"/>
            </a:xfrm>
            <a:prstGeom prst="ellipse">
              <a:avLst/>
            </a:prstGeom>
            <a:solidFill>
              <a:srgbClr val="8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llul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450120" y="357120"/>
              <a:ext cx="1768320" cy="1809720"/>
            </a:xfrm>
            <a:prstGeom prst="ellipse">
              <a:avLst/>
            </a:prstGeom>
            <a:solidFill>
              <a:srgbClr val="8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ganism-leve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ological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s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973080" y="1752480"/>
            <a:ext cx="7216920" cy="398880"/>
            <a:chOff x="973080" y="1752480"/>
            <a:chExt cx="7216920" cy="398880"/>
          </a:xfrm>
        </p:grpSpPr>
        <p:sp>
          <p:nvSpPr>
            <p:cNvPr id="362" name=""/>
            <p:cNvSpPr/>
            <p:nvPr/>
          </p:nvSpPr>
          <p:spPr>
            <a:xfrm>
              <a:off x="6478560" y="1752480"/>
              <a:ext cx="1711440" cy="398880"/>
            </a:xfrm>
            <a:prstGeom prst="rect">
              <a:avLst/>
            </a:prstGeom>
            <a:solidFill>
              <a:srgbClr val="686b5d">
                <a:alpha val="8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nctionin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3" name=""/>
            <p:cNvGrpSpPr/>
            <p:nvPr/>
          </p:nvGrpSpPr>
          <p:grpSpPr>
            <a:xfrm>
              <a:off x="973080" y="1752480"/>
              <a:ext cx="4512600" cy="398880"/>
              <a:chOff x="973080" y="1752480"/>
              <a:chExt cx="4512600" cy="398880"/>
            </a:xfrm>
          </p:grpSpPr>
          <p:sp>
            <p:nvSpPr>
              <p:cNvPr id="364" name=""/>
              <p:cNvSpPr/>
              <p:nvPr/>
            </p:nvSpPr>
            <p:spPr>
              <a:xfrm>
                <a:off x="973080" y="1752480"/>
                <a:ext cx="1711440" cy="398880"/>
              </a:xfrm>
              <a:prstGeom prst="rect">
                <a:avLst/>
              </a:prstGeom>
              <a:solidFill>
                <a:srgbClr val="686b5d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functioning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774240" y="1752480"/>
                <a:ext cx="1711440" cy="398880"/>
              </a:xfrm>
              <a:prstGeom prst="rect">
                <a:avLst/>
              </a:prstGeom>
              <a:solidFill>
                <a:srgbClr val="686b5d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functioning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66" name=""/>
          <p:cNvGrpSpPr/>
          <p:nvPr/>
        </p:nvGrpSpPr>
        <p:grpSpPr>
          <a:xfrm>
            <a:off x="1722600" y="1980720"/>
            <a:ext cx="5611680" cy="838440"/>
            <a:chOff x="1722600" y="1980720"/>
            <a:chExt cx="5611680" cy="838440"/>
          </a:xfrm>
        </p:grpSpPr>
        <p:sp>
          <p:nvSpPr>
            <p:cNvPr id="367" name=""/>
            <p:cNvSpPr/>
            <p:nvPr/>
          </p:nvSpPr>
          <p:spPr>
            <a:xfrm flipV="1">
              <a:off x="1722600" y="1980720"/>
              <a:ext cx="0" cy="838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7334280" y="1980720"/>
              <a:ext cx="0" cy="762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4573440" y="1980720"/>
              <a:ext cx="0" cy="838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7846920" y="2025720"/>
            <a:ext cx="12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Pumping blo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850160" y="3962520"/>
            <a:ext cx="12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To pump blo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939080" y="624852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he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UBO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Upper Biomedical Ontology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374" name=""/>
          <p:cNvSpPr/>
          <p:nvPr/>
        </p:nvSpPr>
        <p:spPr>
          <a:xfrm>
            <a:off x="1298520" y="1523880"/>
            <a:ext cx="2557440" cy="1068480"/>
          </a:xfrm>
          <a:prstGeom prst="rect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inuant: 3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419800" y="1528920"/>
            <a:ext cx="2509920" cy="1063440"/>
          </a:xfrm>
          <a:prstGeom prst="rect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ccurrent: 4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04920" y="3033720"/>
            <a:ext cx="1989000" cy="817560"/>
          </a:xfrm>
          <a:prstGeom prst="rect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epend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inu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687760" y="3033720"/>
            <a:ext cx="1633320" cy="817560"/>
          </a:xfrm>
          <a:prstGeom prst="rect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pend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inu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801720" y="4352760"/>
            <a:ext cx="1563480" cy="817560"/>
          </a:xfrm>
          <a:prstGeom prst="rect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u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575080" y="4363920"/>
            <a:ext cx="1565280" cy="817560"/>
          </a:xfrm>
          <a:prstGeom prst="rect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324320" y="4356000"/>
            <a:ext cx="1492200" cy="817560"/>
          </a:xfrm>
          <a:prstGeom prst="rect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pati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g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700520" y="3033720"/>
            <a:ext cx="1989360" cy="817560"/>
          </a:xfrm>
          <a:prstGeom prst="rect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nct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910560" y="3033720"/>
            <a:ext cx="1776240" cy="1257120"/>
          </a:xfrm>
          <a:prstGeom prst="rect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de-Effect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ochasti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cess,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83" name=""/>
          <p:cNvCxnSpPr>
            <a:stCxn id="374" idx="2"/>
            <a:endCxn id="376" idx="0"/>
          </p:cNvCxnSpPr>
          <p:nvPr/>
        </p:nvCxnSpPr>
        <p:spPr>
          <a:xfrm flipH="1">
            <a:off x="1298160" y="2592360"/>
            <a:ext cx="1280160" cy="442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4" name=""/>
          <p:cNvCxnSpPr>
            <a:stCxn id="374" idx="2"/>
            <a:endCxn id="377" idx="0"/>
          </p:cNvCxnSpPr>
          <p:nvPr/>
        </p:nvCxnSpPr>
        <p:spPr>
          <a:xfrm>
            <a:off x="2577600" y="2592360"/>
            <a:ext cx="926280" cy="442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"/>
          <p:cNvCxnSpPr>
            <a:stCxn id="375" idx="2"/>
            <a:endCxn id="381" idx="0"/>
          </p:cNvCxnSpPr>
          <p:nvPr/>
        </p:nvCxnSpPr>
        <p:spPr>
          <a:xfrm flipH="1">
            <a:off x="5694120" y="2592360"/>
            <a:ext cx="979920" cy="442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6" name=""/>
          <p:cNvCxnSpPr>
            <a:stCxn id="375" idx="2"/>
            <a:endCxn id="382" idx="0"/>
          </p:cNvCxnSpPr>
          <p:nvPr/>
        </p:nvCxnSpPr>
        <p:spPr>
          <a:xfrm>
            <a:off x="6673320" y="2592360"/>
            <a:ext cx="1126440" cy="442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7" name=""/>
          <p:cNvCxnSpPr>
            <a:stCxn id="377" idx="2"/>
            <a:endCxn id="378" idx="0"/>
          </p:cNvCxnSpPr>
          <p:nvPr/>
        </p:nvCxnSpPr>
        <p:spPr>
          <a:xfrm flipH="1">
            <a:off x="1582200" y="3850920"/>
            <a:ext cx="1921680" cy="5018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8" name=""/>
          <p:cNvCxnSpPr>
            <a:stCxn id="377" idx="2"/>
            <a:endCxn id="379" idx="0"/>
          </p:cNvCxnSpPr>
          <p:nvPr/>
        </p:nvCxnSpPr>
        <p:spPr>
          <a:xfrm flipH="1">
            <a:off x="3357000" y="3851280"/>
            <a:ext cx="146520" cy="5133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9" name=""/>
          <p:cNvCxnSpPr>
            <a:stCxn id="377" idx="2"/>
            <a:endCxn id="380" idx="0"/>
          </p:cNvCxnSpPr>
          <p:nvPr/>
        </p:nvCxnSpPr>
        <p:spPr>
          <a:xfrm>
            <a:off x="3503160" y="3851280"/>
            <a:ext cx="1567800" cy="5054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90" name=""/>
          <p:cNvSpPr/>
          <p:nvPr/>
        </p:nvSpPr>
        <p:spPr>
          <a:xfrm>
            <a:off x="0" y="5486400"/>
            <a:ext cx="9448920" cy="0"/>
          </a:xfrm>
          <a:prstGeom prst="line">
            <a:avLst/>
          </a:prstGeom>
          <a:ln w="572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457200" y="5791320"/>
            <a:ext cx="8137440" cy="215280"/>
            <a:chOff x="457200" y="5791320"/>
            <a:chExt cx="8137440" cy="215280"/>
          </a:xfrm>
        </p:grpSpPr>
        <p:sp>
          <p:nvSpPr>
            <p:cNvPr id="392" name=""/>
            <p:cNvSpPr/>
            <p:nvPr/>
          </p:nvSpPr>
          <p:spPr>
            <a:xfrm>
              <a:off x="457200" y="579132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57360" y="579132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82720" y="579420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095480" y="579744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324080" y="579420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539720" y="5800320"/>
              <a:ext cx="15264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739880" y="5800320"/>
              <a:ext cx="15228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965240" y="5803560"/>
              <a:ext cx="15264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178000" y="580680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454120" y="5816520"/>
              <a:ext cx="15264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654280" y="581652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79640" y="5819400"/>
              <a:ext cx="15264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092400" y="5822640"/>
              <a:ext cx="15228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321000" y="5819400"/>
              <a:ext cx="15228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565440" y="5810040"/>
              <a:ext cx="15264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765600" y="581004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990960" y="581328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203720" y="581652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432320" y="581328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648320" y="5819400"/>
              <a:ext cx="15228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48120" y="5819400"/>
              <a:ext cx="15264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073480" y="5822640"/>
              <a:ext cx="15264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286240" y="5825880"/>
              <a:ext cx="15264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562720" y="5835240"/>
              <a:ext cx="15228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762520" y="5835240"/>
              <a:ext cx="15264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987880" y="5838480"/>
              <a:ext cx="15264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200640" y="5841720"/>
              <a:ext cx="15264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429240" y="5838480"/>
              <a:ext cx="15264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721560" y="5838480"/>
              <a:ext cx="15228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21360" y="5838480"/>
              <a:ext cx="15264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147080" y="584172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359480" y="5844960"/>
              <a:ext cx="15264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588080" y="5841720"/>
              <a:ext cx="15264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804080" y="5848200"/>
              <a:ext cx="15264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004240" y="584820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229600" y="585144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442360" y="5854320"/>
              <a:ext cx="15228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1143000" y="5943600"/>
            <a:ext cx="6324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stances (in space and tim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915840" y="1652760"/>
            <a:ext cx="7313760" cy="8244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How to create an ontology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Part 2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e technical aspect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96440" y="6091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Separate the Database from the Ontology 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r extensibility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r generality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r reasonability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r interoperability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Why ontologies are worth it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Minimize database maintenance cost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ommunication between researcher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s well a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Better query facilitie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bility to draw inference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Detect correlation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acilitate computational interpretation of tex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nd more…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Century Gothic"/>
              </a:rPr>
              <a:t>Before: domain knowledge is embedded in the db </a:t>
            </a:r>
            <a:r>
              <a:rPr b="0" lang="en-US" sz="4000" spc="-1" strike="noStrike">
                <a:solidFill>
                  <a:srgbClr val="ffff00"/>
                </a:solidFill>
                <a:latin typeface="Century Gothic"/>
              </a:rPr>
              <a:t>schema</a:t>
            </a:r>
            <a:endParaRPr b="0" lang="en-US" sz="4000" spc="-1" strike="noStrike">
              <a:solidFill>
                <a:srgbClr val="ffcc66"/>
              </a:solidFill>
              <a:latin typeface="Century Gothic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2352600" y="1981080"/>
            <a:ext cx="4438800" cy="411480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4309560" y="2133720"/>
            <a:ext cx="942840" cy="703800"/>
          </a:xfrm>
          <a:prstGeom prst="rect">
            <a:avLst/>
          </a:prstGeom>
          <a:solidFill>
            <a:srgbClr val="909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Ge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345200" y="3859200"/>
            <a:ext cx="942840" cy="703800"/>
          </a:xfrm>
          <a:prstGeom prst="rect">
            <a:avLst/>
          </a:prstGeom>
          <a:solidFill>
            <a:srgbClr val="909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R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259600" y="2868480"/>
            <a:ext cx="942840" cy="703800"/>
          </a:xfrm>
          <a:prstGeom prst="rect">
            <a:avLst/>
          </a:prstGeom>
          <a:solidFill>
            <a:srgbClr val="909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Ex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162680" y="4925880"/>
            <a:ext cx="1247400" cy="703800"/>
          </a:xfrm>
          <a:prstGeom prst="rect">
            <a:avLst/>
          </a:prstGeom>
          <a:solidFill>
            <a:srgbClr val="909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Prote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864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Century Gothic"/>
              </a:rPr>
              <a:t>Embedding domain knowledge in the db schema is expensive</a:t>
            </a:r>
            <a:endParaRPr b="0" lang="en-US" sz="40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logical description and the physical database description of the biology are co-mingled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refore new biological knowledge will force: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chema changes: e.g. new tabl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Query changes: that explicitly refer to tabl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Middleware changes: to retrieve and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GUI changes: to display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440" y="277920"/>
            <a:ext cx="9144000" cy="630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Century Gothic"/>
              </a:rPr>
              <a:t>After: domain knowledge is embedded in the </a:t>
            </a:r>
            <a:r>
              <a:rPr b="0" lang="en-US" sz="4000" spc="-1" strike="noStrike">
                <a:solidFill>
                  <a:srgbClr val="ffff00"/>
                </a:solidFill>
                <a:latin typeface="Century Gothic"/>
              </a:rPr>
              <a:t>ontology</a:t>
            </a:r>
            <a:endParaRPr b="0" lang="en-US" sz="4000" spc="-1" strike="noStrike">
              <a:solidFill>
                <a:srgbClr val="ffcc66"/>
              </a:solidFill>
              <a:latin typeface="Century Gothic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5130720" cy="411480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1895760" y="3260880"/>
            <a:ext cx="1247400" cy="703800"/>
          </a:xfrm>
          <a:prstGeom prst="rect">
            <a:avLst/>
          </a:prstGeom>
          <a:solidFill>
            <a:srgbClr val="909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fe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2"/>
          <a:srcRect l="12006" t="0" r="19199" b="0"/>
          <a:stretch/>
        </p:blipFill>
        <p:spPr>
          <a:xfrm>
            <a:off x="4564080" y="2352600"/>
            <a:ext cx="4579920" cy="45054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5456160" y="2438280"/>
            <a:ext cx="792360" cy="432000"/>
          </a:xfrm>
          <a:prstGeom prst="ellipse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861160" y="3449520"/>
            <a:ext cx="1225440" cy="360360"/>
          </a:xfrm>
          <a:prstGeom prst="ellipse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294600" y="4513320"/>
            <a:ext cx="792000" cy="287280"/>
          </a:xfrm>
          <a:prstGeom prst="ellipse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47" idx="3"/>
            <a:endCxn id="449" idx="3"/>
          </p:cNvCxnSpPr>
          <p:nvPr/>
        </p:nvCxnSpPr>
        <p:spPr>
          <a:xfrm flipV="1">
            <a:off x="3047760" y="2824920"/>
            <a:ext cx="2524680" cy="786600"/>
          </a:xfrm>
          <a:prstGeom prst="curvedConnector2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</p:cxnSp>
      <p:cxnSp>
        <p:nvCxnSpPr>
          <p:cNvPr id="453" name=""/>
          <p:cNvCxnSpPr>
            <a:stCxn id="447" idx="3"/>
            <a:endCxn id="450" idx="3"/>
          </p:cNvCxnSpPr>
          <p:nvPr/>
        </p:nvCxnSpPr>
        <p:spPr>
          <a:xfrm>
            <a:off x="3048120" y="3611160"/>
            <a:ext cx="2993040" cy="165960"/>
          </a:xfrm>
          <a:prstGeom prst="curvedConnector5">
            <a:avLst>
              <a:gd name="adj1" fmla="val 46998"/>
              <a:gd name="adj2" fmla="val 129130"/>
              <a:gd name="adj3" fmla="val 46998"/>
            </a:avLst>
          </a:prstGeom>
          <a:ln w="38160">
            <a:solidFill>
              <a:srgbClr val="ffcc66"/>
            </a:solidFill>
            <a:miter/>
            <a:tailEnd len="med" type="triangle" w="med"/>
          </a:ln>
        </p:spPr>
      </p:cxnSp>
      <p:cxnSp>
        <p:nvCxnSpPr>
          <p:cNvPr id="454" name=""/>
          <p:cNvCxnSpPr>
            <a:stCxn id="447" idx="3"/>
            <a:endCxn id="451" idx="3"/>
          </p:cNvCxnSpPr>
          <p:nvPr/>
        </p:nvCxnSpPr>
        <p:spPr>
          <a:xfrm>
            <a:off x="3047760" y="3611160"/>
            <a:ext cx="3362760" cy="1166040"/>
          </a:xfrm>
          <a:prstGeom prst="curvedConnector5">
            <a:avLst>
              <a:gd name="adj1" fmla="val 48244"/>
              <a:gd name="adj2" fmla="val 60809"/>
              <a:gd name="adj3" fmla="val 48244"/>
            </a:avLst>
          </a:prstGeom>
          <a:ln w="38160">
            <a:solidFill>
              <a:srgbClr val="ffcc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864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Century Gothic"/>
              </a:rPr>
              <a:t>Ontology driven db schema is less expensive to maintain</a:t>
            </a:r>
            <a:endParaRPr b="0" lang="en-US" sz="40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 logical description and the physical database description of the biology are developed independently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refore new biological knowledge will only require: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Ontology changes: e.g. new term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GUI changes: display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No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schema change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No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query change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No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middleware change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638280" y="509760"/>
            <a:ext cx="2836800" cy="281448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/>
          <p:nvPr/>
        </p:nvSpPr>
        <p:spPr>
          <a:xfrm>
            <a:off x="5105520" y="509760"/>
            <a:ext cx="36576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Reality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ultimately this is what the ontology must refl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4114800" y="647640"/>
            <a:ext cx="4390920" cy="556272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2"/>
          <a:stretch/>
        </p:blipFill>
        <p:spPr>
          <a:xfrm>
            <a:off x="638280" y="509760"/>
            <a:ext cx="2836800" cy="2814480"/>
          </a:xfrm>
          <a:prstGeom prst="rect">
            <a:avLst/>
          </a:prstGeom>
          <a:ln w="0">
            <a:noFill/>
          </a:ln>
        </p:spPr>
      </p:pic>
      <p:cxnSp>
        <p:nvCxnSpPr>
          <p:cNvPr id="461" name=""/>
          <p:cNvCxnSpPr>
            <a:stCxn id="460" idx="0"/>
            <a:endCxn id="459" idx="0"/>
          </p:cNvCxnSpPr>
          <p:nvPr/>
        </p:nvCxnSpPr>
        <p:spPr>
          <a:xfrm flipH="1" rot="16200000">
            <a:off x="4114800" y="-1549080"/>
            <a:ext cx="138600" cy="4253760"/>
          </a:xfrm>
          <a:prstGeom prst="curvedConnector5">
            <a:avLst>
              <a:gd name="adj1" fmla="val -165364"/>
              <a:gd name="adj2" fmla="val 49995"/>
              <a:gd name="adj3" fmla="val -165364"/>
            </a:avLst>
          </a:prstGeom>
          <a:ln w="38160">
            <a:solidFill>
              <a:srgbClr val="ffcc66"/>
            </a:solidFill>
            <a:miter/>
            <a:headEnd len="med" type="stealth" w="med"/>
            <a:tailEnd len="med" type="stealth" w="med"/>
          </a:ln>
        </p:spPr>
      </p:cxnSp>
      <p:sp>
        <p:nvSpPr>
          <p:cNvPr id="462" name=""/>
          <p:cNvSpPr/>
          <p:nvPr/>
        </p:nvSpPr>
        <p:spPr>
          <a:xfrm>
            <a:off x="5486400" y="685800"/>
            <a:ext cx="304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9082"/>
                </a:solidFill>
                <a:latin typeface="Century Gothic"/>
              </a:rPr>
              <a:t>Step 1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9082"/>
                </a:solidFill>
                <a:latin typeface="Century Gothic"/>
              </a:rPr>
              <a:t>Build an ontology that reflects re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912960" y="3833640"/>
            <a:ext cx="2286000" cy="2514600"/>
          </a:xfrm>
          <a:prstGeom prst="flowChartMagneticDisk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Databas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UIDs ser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s proxies f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nstanc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638280" y="509760"/>
            <a:ext cx="2836800" cy="281448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4038480" y="509760"/>
            <a:ext cx="4724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Observations and experiment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114800" y="4038480"/>
            <a:ext cx="472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Patient 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quence acces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Genetic strain 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67" name=""/>
          <p:cNvCxnSpPr>
            <a:stCxn id="464" idx="1"/>
            <a:endCxn id="463" idx="2"/>
          </p:cNvCxnSpPr>
          <p:nvPr/>
        </p:nvCxnSpPr>
        <p:spPr>
          <a:xfrm flipH="1" flipV="1" rot="10800000">
            <a:off x="637200" y="1916640"/>
            <a:ext cx="275400" cy="3174120"/>
          </a:xfrm>
          <a:prstGeom prst="curvedConnector5">
            <a:avLst>
              <a:gd name="adj1" fmla="val -160602"/>
              <a:gd name="adj2" fmla="val 50000"/>
              <a:gd name="adj3" fmla="val -160602"/>
            </a:avLst>
          </a:prstGeom>
          <a:ln w="38160">
            <a:solidFill>
              <a:srgbClr val="ffcc66"/>
            </a:solidFill>
            <a:miter/>
            <a:headEnd len="med" type="stealth" w="med"/>
            <a:tailEnd len="med" type="stealth" w="med"/>
          </a:ln>
        </p:spPr>
      </p:cxnSp>
      <p:sp>
        <p:nvSpPr>
          <p:cNvPr id="468" name=""/>
          <p:cNvSpPr/>
          <p:nvPr/>
        </p:nvSpPr>
        <p:spPr>
          <a:xfrm>
            <a:off x="380880" y="335268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Step 2: Data cap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12960" y="3833640"/>
            <a:ext cx="2286000" cy="2514600"/>
          </a:xfrm>
          <a:prstGeom prst="flowChartMagneticDisk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Databas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UIDs ser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s proxies f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nstanc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4114800" y="647640"/>
            <a:ext cx="4390920" cy="556272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638280" y="509760"/>
            <a:ext cx="2836800" cy="2814480"/>
          </a:xfrm>
          <a:prstGeom prst="rect">
            <a:avLst/>
          </a:prstGeom>
          <a:ln w="0">
            <a:noFill/>
          </a:ln>
        </p:spPr>
      </p:pic>
      <p:cxnSp>
        <p:nvCxnSpPr>
          <p:cNvPr id="472" name=""/>
          <p:cNvCxnSpPr>
            <a:stCxn id="471" idx="1"/>
            <a:endCxn id="469" idx="2"/>
          </p:cNvCxnSpPr>
          <p:nvPr/>
        </p:nvCxnSpPr>
        <p:spPr>
          <a:xfrm flipH="1" flipV="1" rot="10800000">
            <a:off x="637200" y="1916640"/>
            <a:ext cx="275400" cy="3174120"/>
          </a:xfrm>
          <a:prstGeom prst="curvedConnector5">
            <a:avLst>
              <a:gd name="adj1" fmla="val -176832"/>
              <a:gd name="adj2" fmla="val 50000"/>
              <a:gd name="adj3" fmla="val -176832"/>
            </a:avLst>
          </a:prstGeom>
          <a:ln w="38160">
            <a:solidFill>
              <a:srgbClr val="ffcc66"/>
            </a:solidFill>
            <a:miter/>
            <a:headEnd len="med" type="stealth" w="med"/>
            <a:tailEnd len="med" type="stealth" w="med"/>
          </a:ln>
        </p:spPr>
      </p:cxnSp>
      <p:cxnSp>
        <p:nvCxnSpPr>
          <p:cNvPr id="473" name=""/>
          <p:cNvCxnSpPr>
            <a:stCxn id="471" idx="0"/>
            <a:endCxn id="470" idx="0"/>
          </p:cNvCxnSpPr>
          <p:nvPr/>
        </p:nvCxnSpPr>
        <p:spPr>
          <a:xfrm flipH="1" rot="16200000">
            <a:off x="4114800" y="-1549080"/>
            <a:ext cx="138600" cy="4253760"/>
          </a:xfrm>
          <a:prstGeom prst="curvedConnector5">
            <a:avLst>
              <a:gd name="adj1" fmla="val -165364"/>
              <a:gd name="adj2" fmla="val 49995"/>
              <a:gd name="adj3" fmla="val -165364"/>
            </a:avLst>
          </a:prstGeom>
          <a:ln w="38160">
            <a:solidFill>
              <a:srgbClr val="ffcc66"/>
            </a:solidFill>
            <a:miter/>
            <a:headEnd len="med" type="stealth" w="med"/>
            <a:tailEnd len="med" type="stealth" w="med"/>
          </a:ln>
        </p:spPr>
      </p:cxnSp>
      <p:cxnSp>
        <p:nvCxnSpPr>
          <p:cNvPr id="474" name=""/>
          <p:cNvCxnSpPr>
            <a:stCxn id="469" idx="4"/>
            <a:endCxn id="470" idx="1"/>
          </p:cNvCxnSpPr>
          <p:nvPr/>
        </p:nvCxnSpPr>
        <p:spPr>
          <a:xfrm flipV="1">
            <a:off x="3198960" y="3428280"/>
            <a:ext cx="916560" cy="1662840"/>
          </a:xfrm>
          <a:prstGeom prst="curvedConnector5">
            <a:avLst>
              <a:gd name="adj1" fmla="val 49901"/>
              <a:gd name="adj2" fmla="val 50000"/>
              <a:gd name="adj3" fmla="val 49901"/>
            </a:avLst>
          </a:prstGeom>
          <a:ln w="38160">
            <a:solidFill>
              <a:srgbClr val="ffcc66"/>
            </a:solidFill>
            <a:miter/>
            <a:headEnd len="med" type="stealth" w="med"/>
            <a:tailEnd len="med" type="stealth" w="med"/>
          </a:ln>
        </p:spPr>
      </p:cxnSp>
      <p:sp>
        <p:nvSpPr>
          <p:cNvPr id="475" name=""/>
          <p:cNvSpPr/>
          <p:nvPr/>
        </p:nvSpPr>
        <p:spPr>
          <a:xfrm>
            <a:off x="5486400" y="685800"/>
            <a:ext cx="304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9082"/>
                </a:solidFill>
                <a:latin typeface="Century Gothic"/>
              </a:rPr>
              <a:t>Step 1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9082"/>
                </a:solidFill>
                <a:latin typeface="Century Gothic"/>
              </a:rPr>
              <a:t>Build an ontology that reflects re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80880" y="335268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Step 2: Data cap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038480" y="3629160"/>
            <a:ext cx="228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9082"/>
                </a:solidFill>
                <a:latin typeface="Century Gothic"/>
              </a:rPr>
              <a:t>Step 3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9082"/>
                </a:solidFill>
                <a:latin typeface="Century Gothic"/>
              </a:rPr>
              <a:t>Classify data using the ont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Ontology is a contract between researcher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 common language that allows us to share knowledg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Researchers have a stake in it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Every individual will benefit by being able to </a:t>
            </a:r>
            <a:r>
              <a:rPr b="1" lang="en-US" sz="2400" spc="-1" strike="noStrike">
                <a:solidFill>
                  <a:srgbClr val="80ff00"/>
                </a:solidFill>
                <a:latin typeface="Century Gothic"/>
              </a:rPr>
              <a:t>accurately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interpret someone else’s data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No more pre-scrubbin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No more time spent translatin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Rules on type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Don’t confuse types with instanc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Don’t confuse instances with leaf nod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Don’t confuse types with idea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Don’t confuse types with ways of getting to know typ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Don’t confuse types with ways of talking about typ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Don’t confuse types with data about typ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7240" y="23799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An astronomy ontology should not include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'Buzz Aldrin'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Rules on term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erms should be in the singular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void abbreviations even when it is clear in context what they mean (‘breast’ for ‘breast tumor’)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nk of each term ‘A ’ in an ontology is shorthand for a term of the form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‘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e type A ’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440" y="171360"/>
            <a:ext cx="9144000" cy="65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Rules on Definition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 terms used in a definition should be simpler (more intelligible) than the term to be defined; otherwise the definition provides no assistanc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Definitions should be intelligible to both machines and human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o human understandi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Humans need clarity and modularity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o machine processi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Machines can cope with the full formal representatio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Confusing non-useful definition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wimmi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wimming is healthy and has 8 letter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Poland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e name of Polan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When defining terms use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 Aristotelian definition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 definition of ‘A’ takes the form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an </a:t>
            </a:r>
            <a:r>
              <a:rPr b="0" lang="en-US" sz="2800" spc="-1" strike="noStrike">
                <a:solidFill>
                  <a:srgbClr val="80ff00"/>
                </a:solidFill>
                <a:latin typeface="Courier New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=def. is a </a:t>
            </a:r>
            <a:r>
              <a:rPr b="0" lang="en-US" sz="2800" spc="-1" strike="noStrike">
                <a:solidFill>
                  <a:srgbClr val="80ff00"/>
                </a:solidFill>
                <a:latin typeface="Courier New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which ..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here </a:t>
            </a:r>
            <a:r>
              <a:rPr b="0" lang="en-US" sz="2400" spc="-1" strike="noStrike">
                <a:solidFill>
                  <a:srgbClr val="80ff00"/>
                </a:solidFill>
                <a:latin typeface="Century Gothic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is </a:t>
            </a:r>
            <a:r>
              <a:rPr b="0" lang="en-US" sz="2400" spc="-1" strike="noStrike">
                <a:solidFill>
                  <a:srgbClr val="80ff00"/>
                </a:solidFill>
                <a:latin typeface="Century Gothic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’s parent in the hierarchy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 human being =def. an </a:t>
            </a:r>
            <a:r>
              <a:rPr b="0" lang="en-US" sz="2800" spc="-1" strike="noStrike">
                <a:solidFill>
                  <a:srgbClr val="80ff00"/>
                </a:solidFill>
                <a:latin typeface="Century Gothic"/>
              </a:rPr>
              <a:t>animal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80ff00"/>
                </a:solidFill>
                <a:latin typeface="Century Gothic"/>
              </a:rPr>
              <a:t>which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is rationa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 helicase =def. an </a:t>
            </a:r>
            <a:r>
              <a:rPr b="0" lang="en-US" sz="2800" spc="-1" strike="noStrike">
                <a:solidFill>
                  <a:srgbClr val="80ff00"/>
                </a:solidFill>
                <a:latin typeface="Century Gothic"/>
              </a:rPr>
              <a:t>enzyme which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catalyzes the hydrolysis of ATP to unwind the DNA helix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Use of Aristotelian definition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Makes defining terms easier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Each definition encapsulates in modular form the entire parentage of the defined term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 entire information content of the FMA’s term hierarchy and definitions can be translated very cleanly into a computer representation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Now accepted by GO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Summary: How to build your ontology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Keep It Simple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27920" indent="-280080"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lowest possible barrier to entry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5880" indent="-3358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echnology independenc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35880" indent="-3358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larity of definitions and scop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35880" indent="-3358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With new data, we change our minds”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27920" indent="-280080"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n ontology must adapt to reflect current understanding of reality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27920" indent="-280080"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Mechanisms to support chang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915840" y="1652760"/>
            <a:ext cx="7313760" cy="8244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How to build an ontology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Part 3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e sociology and organizational aspect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4440960" y="6269040"/>
            <a:ext cx="47678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Adopted from “Open Source Menu for Success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Elements for Success: GO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 Community with a common vision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 pool of talented and motivated developers/scientist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 mix of academic and commercia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n organized, light weight approach to product developmen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 leadership structur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ommunication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 well-defined scope, (our “business”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915840" y="1652760"/>
            <a:ext cx="7313760" cy="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Gene Ontology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ommunity annotation productio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-32580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Extreme Programming” techniques to distributed ontology generatio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05600" indent="-271440"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Revision contro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05600" indent="-271440"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Nightly conflict resolution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05600" indent="-271440"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Users are integral to the team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05600" indent="-271440"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Rapid iteration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04" name=""/>
          <p:cNvCxnSpPr>
            <a:stCxn id="505" idx="2"/>
            <a:endCxn id="506" idx="0"/>
          </p:cNvCxnSpPr>
          <p:nvPr/>
        </p:nvCxnSpPr>
        <p:spPr>
          <a:xfrm flipV="1" rot="10800000">
            <a:off x="7187400" y="4633560"/>
            <a:ext cx="1080" cy="616680"/>
          </a:xfrm>
          <a:prstGeom prst="bent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507" name=""/>
          <p:cNvSpPr/>
          <p:nvPr/>
        </p:nvSpPr>
        <p:spPr>
          <a:xfrm>
            <a:off x="976320" y="200880"/>
            <a:ext cx="637920" cy="368280"/>
          </a:xfrm>
          <a:prstGeom prst="rect">
            <a:avLst/>
          </a:prstGeom>
          <a:solidFill>
            <a:srgbClr val="e9dc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366000" y="200880"/>
            <a:ext cx="891000" cy="368280"/>
          </a:xfrm>
          <a:prstGeom prst="rect">
            <a:avLst/>
          </a:prstGeom>
          <a:solidFill>
            <a:srgbClr val="e9dc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v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311880" y="5253840"/>
            <a:ext cx="1752480" cy="368280"/>
          </a:xfrm>
          <a:prstGeom prst="rect">
            <a:avLst/>
          </a:prstGeom>
          <a:solidFill>
            <a:srgbClr val="e9dc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746440" y="644760"/>
            <a:ext cx="2130480" cy="1832760"/>
          </a:xfrm>
          <a:prstGeom prst="flowChartDecision">
            <a:avLst/>
          </a:prstGeom>
          <a:solidFill>
            <a:srgbClr val="e9dc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 covere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65000" y="1741680"/>
            <a:ext cx="1825920" cy="1284840"/>
          </a:xfrm>
          <a:prstGeom prst="flowChartDecision">
            <a:avLst/>
          </a:prstGeom>
          <a:solidFill>
            <a:srgbClr val="e9dc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898720" y="2884680"/>
            <a:ext cx="1825560" cy="1284840"/>
          </a:xfrm>
          <a:prstGeom prst="flowChartDecision">
            <a:avLst/>
          </a:prstGeom>
          <a:solidFill>
            <a:srgbClr val="e9dc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822400" y="4332600"/>
            <a:ext cx="1978200" cy="1284840"/>
          </a:xfrm>
          <a:prstGeom prst="flowChartDecision">
            <a:avLst/>
          </a:prstGeom>
          <a:solidFill>
            <a:srgbClr val="e9dc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e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715000" y="2860560"/>
            <a:ext cx="2948040" cy="736200"/>
          </a:xfrm>
          <a:prstGeom prst="flowChartDecision">
            <a:avLst/>
          </a:prstGeom>
          <a:solidFill>
            <a:srgbClr val="e9dc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t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311880" y="4261680"/>
            <a:ext cx="1752480" cy="368280"/>
          </a:xfrm>
          <a:prstGeom prst="rect">
            <a:avLst/>
          </a:prstGeom>
          <a:solidFill>
            <a:srgbClr val="e9dc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91640" y="4025160"/>
            <a:ext cx="1003680" cy="368280"/>
          </a:xfrm>
          <a:prstGeom prst="rect">
            <a:avLst/>
          </a:prstGeom>
          <a:solidFill>
            <a:srgbClr val="e9dc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v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992920" y="6195240"/>
            <a:ext cx="2390760" cy="368280"/>
          </a:xfrm>
          <a:prstGeom prst="rect">
            <a:avLst/>
          </a:prstGeom>
          <a:solidFill>
            <a:srgbClr val="e9dc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aborate &amp; Lear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6" name=""/>
          <p:cNvCxnSpPr>
            <a:stCxn id="507" idx="3"/>
            <a:endCxn id="508" idx="1"/>
          </p:cNvCxnSpPr>
          <p:nvPr/>
        </p:nvCxnSpPr>
        <p:spPr>
          <a:xfrm>
            <a:off x="1620360" y="385560"/>
            <a:ext cx="1739160" cy="1080"/>
          </a:xfrm>
          <a:prstGeom prst="bent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17" name=""/>
          <p:cNvCxnSpPr>
            <a:stCxn id="508" idx="2"/>
            <a:endCxn id="509" idx="0"/>
          </p:cNvCxnSpPr>
          <p:nvPr/>
        </p:nvCxnSpPr>
        <p:spPr>
          <a:xfrm flipV="1" rot="10800000">
            <a:off x="3810960" y="572760"/>
            <a:ext cx="1080" cy="388080"/>
          </a:xfrm>
          <a:prstGeom prst="bent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18" name=""/>
          <p:cNvCxnSpPr/>
          <p:nvPr/>
        </p:nvCxnSpPr>
        <p:spPr>
          <a:xfrm flipV="1" rot="10800000">
            <a:off x="1677240" y="1522800"/>
            <a:ext cx="1069200" cy="497880"/>
          </a:xfrm>
          <a:prstGeom prst="bentConnector2">
            <a:avLst/>
          </a:prstGeom>
          <a:ln w="38160">
            <a:solidFill>
              <a:srgbClr val="80ff00"/>
            </a:solidFill>
            <a:prstDash val="dash"/>
            <a:miter/>
            <a:tailEnd len="med" type="triangle" w="med"/>
          </a:ln>
        </p:spPr>
      </p:cxnSp>
      <p:cxnSp>
        <p:nvCxnSpPr>
          <p:cNvPr id="519" name=""/>
          <p:cNvCxnSpPr>
            <a:stCxn id="510" idx="3"/>
            <a:endCxn id="513" idx="0"/>
          </p:cNvCxnSpPr>
          <p:nvPr/>
        </p:nvCxnSpPr>
        <p:spPr>
          <a:xfrm>
            <a:off x="2590560" y="2384280"/>
            <a:ext cx="4599720" cy="518400"/>
          </a:xfrm>
          <a:prstGeom prst="bentConnector2">
            <a:avLst/>
          </a:prstGeom>
          <a:ln cap="rnd" w="38160">
            <a:solidFill>
              <a:srgbClr val="ffff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20" name=""/>
          <p:cNvCxnSpPr>
            <a:stCxn id="509" idx="3"/>
            <a:endCxn id="513" idx="0"/>
          </p:cNvCxnSpPr>
          <p:nvPr/>
        </p:nvCxnSpPr>
        <p:spPr>
          <a:xfrm>
            <a:off x="4876560" y="1560600"/>
            <a:ext cx="2313720" cy="1342080"/>
          </a:xfrm>
          <a:prstGeom prst="bentConnector2">
            <a:avLst/>
          </a:prstGeom>
          <a:ln cap="rnd" w="38160">
            <a:solidFill>
              <a:srgbClr val="ffff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21" name=""/>
          <p:cNvCxnSpPr/>
          <p:nvPr/>
        </p:nvCxnSpPr>
        <p:spPr>
          <a:xfrm flipH="1" rot="16200000">
            <a:off x="2498400" y="1851480"/>
            <a:ext cx="491400" cy="2134440"/>
          </a:xfrm>
          <a:prstGeom prst="bentConnector3">
            <a:avLst>
              <a:gd name="adj1" fmla="val 49780"/>
            </a:avLst>
          </a:prstGeom>
          <a:ln w="38160">
            <a:solidFill>
              <a:srgbClr val="80ff00"/>
            </a:solidFill>
            <a:prstDash val="dash"/>
            <a:miter/>
            <a:tailEnd len="med" type="triangle" w="med"/>
          </a:ln>
        </p:spPr>
      </p:cxnSp>
      <p:cxnSp>
        <p:nvCxnSpPr>
          <p:cNvPr id="522" name=""/>
          <p:cNvCxnSpPr>
            <a:stCxn id="511" idx="2"/>
            <a:endCxn id="512" idx="0"/>
          </p:cNvCxnSpPr>
          <p:nvPr/>
        </p:nvCxnSpPr>
        <p:spPr>
          <a:xfrm flipV="1" rot="10800000">
            <a:off x="3810960" y="3852360"/>
            <a:ext cx="1080" cy="796320"/>
          </a:xfrm>
          <a:prstGeom prst="bentConnector2">
            <a:avLst/>
          </a:prstGeom>
          <a:ln w="38160">
            <a:solidFill>
              <a:srgbClr val="80ff00"/>
            </a:solidFill>
            <a:prstDash val="dash"/>
            <a:miter/>
            <a:tailEnd len="med" type="triangle" w="med"/>
          </a:ln>
        </p:spPr>
      </p:cxnSp>
      <p:cxnSp>
        <p:nvCxnSpPr>
          <p:cNvPr id="523" name=""/>
          <p:cNvCxnSpPr>
            <a:stCxn id="511" idx="1"/>
            <a:endCxn id="514" idx="3"/>
          </p:cNvCxnSpPr>
          <p:nvPr/>
        </p:nvCxnSpPr>
        <p:spPr>
          <a:xfrm flipV="1" rot="10800000">
            <a:off x="1802520" y="3526200"/>
            <a:ext cx="1096200" cy="683640"/>
          </a:xfrm>
          <a:prstGeom prst="bentConnector3">
            <a:avLst>
              <a:gd name="adj1" fmla="val 50000"/>
            </a:avLst>
          </a:prstGeom>
          <a:ln cap="rnd" w="38160">
            <a:solidFill>
              <a:srgbClr val="ffff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24" name=""/>
          <p:cNvCxnSpPr>
            <a:stCxn id="514" idx="1"/>
            <a:endCxn id="509" idx="0"/>
          </p:cNvCxnSpPr>
          <p:nvPr/>
        </p:nvCxnSpPr>
        <p:spPr>
          <a:xfrm flipH="1" rot="10800000">
            <a:off x="783720" y="959760"/>
            <a:ext cx="3028320" cy="3250440"/>
          </a:xfrm>
          <a:prstGeom prst="bentConnector4">
            <a:avLst>
              <a:gd name="adj1" fmla="val -7549"/>
              <a:gd name="adj2" fmla="val 107022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25" name=""/>
          <p:cNvCxnSpPr>
            <a:stCxn id="512" idx="1"/>
            <a:endCxn id="514" idx="3"/>
          </p:cNvCxnSpPr>
          <p:nvPr/>
        </p:nvCxnSpPr>
        <p:spPr>
          <a:xfrm rot="10800000">
            <a:off x="1802520" y="4209480"/>
            <a:ext cx="1019880" cy="765720"/>
          </a:xfrm>
          <a:prstGeom prst="bentConnector3">
            <a:avLst>
              <a:gd name="adj1" fmla="val 50000"/>
            </a:avLst>
          </a:prstGeom>
          <a:ln cap="rnd" w="38160">
            <a:solidFill>
              <a:srgbClr val="ffff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26" name=""/>
          <p:cNvCxnSpPr>
            <a:stCxn id="512" idx="3"/>
            <a:endCxn id="506" idx="0"/>
          </p:cNvCxnSpPr>
          <p:nvPr/>
        </p:nvCxnSpPr>
        <p:spPr>
          <a:xfrm>
            <a:off x="4800600" y="4974840"/>
            <a:ext cx="2388240" cy="275400"/>
          </a:xfrm>
          <a:prstGeom prst="bentConnector2">
            <a:avLst/>
          </a:prstGeom>
          <a:ln w="38160">
            <a:solidFill>
              <a:srgbClr val="80ff00"/>
            </a:solidFill>
            <a:prstDash val="dash"/>
            <a:miter/>
            <a:tailEnd len="med" type="triangle" w="med"/>
          </a:ln>
        </p:spPr>
      </p:cxnSp>
      <p:cxnSp>
        <p:nvCxnSpPr>
          <p:cNvPr id="527" name=""/>
          <p:cNvCxnSpPr>
            <a:stCxn id="513" idx="3"/>
            <a:endCxn id="508" idx="3"/>
          </p:cNvCxnSpPr>
          <p:nvPr/>
        </p:nvCxnSpPr>
        <p:spPr>
          <a:xfrm flipH="1" flipV="1">
            <a:off x="4263480" y="385200"/>
            <a:ext cx="4399560" cy="2843640"/>
          </a:xfrm>
          <a:prstGeom prst="bentConnector3">
            <a:avLst>
              <a:gd name="adj1" fmla="val -5188"/>
            </a:avLst>
          </a:prstGeom>
          <a:ln cap="rnd" w="38160">
            <a:solidFill>
              <a:srgbClr val="ffff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28" name=""/>
          <p:cNvCxnSpPr>
            <a:stCxn id="513" idx="2"/>
            <a:endCxn id="505" idx="0"/>
          </p:cNvCxnSpPr>
          <p:nvPr/>
        </p:nvCxnSpPr>
        <p:spPr>
          <a:xfrm rot="5400000">
            <a:off x="6836400" y="3904920"/>
            <a:ext cx="704160" cy="2520"/>
          </a:xfrm>
          <a:prstGeom prst="bentConnector3">
            <a:avLst>
              <a:gd name="adj1" fmla="val 49872"/>
            </a:avLst>
          </a:prstGeom>
          <a:ln w="38160">
            <a:solidFill>
              <a:srgbClr val="80ff00"/>
            </a:solidFill>
            <a:prstDash val="dash"/>
            <a:miter/>
            <a:tailEnd len="med" type="triangle" w="med"/>
          </a:ln>
        </p:spPr>
      </p:cxnSp>
      <p:cxnSp>
        <p:nvCxnSpPr>
          <p:cNvPr id="529" name=""/>
          <p:cNvCxnSpPr>
            <a:stCxn id="506" idx="2"/>
            <a:endCxn id="515" idx="0"/>
          </p:cNvCxnSpPr>
          <p:nvPr/>
        </p:nvCxnSpPr>
        <p:spPr>
          <a:xfrm flipV="1" rot="10800000">
            <a:off x="7187400" y="5625720"/>
            <a:ext cx="1080" cy="565920"/>
          </a:xfrm>
          <a:prstGeom prst="bent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530" name=""/>
          <p:cNvSpPr/>
          <p:nvPr/>
        </p:nvSpPr>
        <p:spPr>
          <a:xfrm>
            <a:off x="687600" y="532440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ff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87960" y="571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32" name=""/>
          <p:cNvCxnSpPr>
            <a:stCxn id="515" idx="3"/>
            <a:endCxn id="506" idx="3"/>
          </p:cNvCxnSpPr>
          <p:nvPr/>
        </p:nvCxnSpPr>
        <p:spPr>
          <a:xfrm flipH="1" flipV="1">
            <a:off x="8063640" y="5438160"/>
            <a:ext cx="320040" cy="942120"/>
          </a:xfrm>
          <a:prstGeom prst="bentConnector3">
            <a:avLst>
              <a:gd name="adj1" fmla="val -71621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80880" y="747360"/>
            <a:ext cx="8382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Is your domain covered?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entury Gothic"/>
              </a:rPr>
              <a:t>Due diligence &amp; background research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3603240"/>
            <a:ext cx="7772400" cy="343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tep 1: Learn what is out ther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 most comprehensive list is on the OBO site. 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Century Gothic"/>
                <a:hlinkClick r:id="rId1"/>
              </a:rPr>
              <a:t>http://obo.sourceforge.ne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ssess ontologies critically and realistically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440" y="306360"/>
            <a:ext cx="9144000" cy="625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-939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It is privately held?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entury Gothic"/>
              </a:rPr>
              <a:t>Ontologies must be shared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77400" y="1919160"/>
            <a:ext cx="8991720" cy="581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ommunities form scientific theories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at seek to explain all of the existing evidenc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nd can be used for predictio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se communities are all directed to the same biological reality, but have their own perspectiv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 computable representation must be shared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Ontology development is inherently collaborativ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Open ontologies become connected to instance data &amp; this feeds back on ontology developmen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0" y="699840"/>
            <a:ext cx="91440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Is it active?</a:t>
            </a:r>
            <a:r>
              <a:rPr b="0" lang="en-US" sz="4400" spc="-1" strike="noStrike">
                <a:solidFill>
                  <a:srgbClr val="ff0000"/>
                </a:solidFill>
                <a:latin typeface="Century Gothic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entury Gothic"/>
              </a:rPr>
              <a:t>Pragmatic assessment of an ontology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3505320"/>
            <a:ext cx="7772400" cy="31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Is there access to help, e.g.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help-me@weird.ontology.net 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Does a warm body answer help mail within a ‘reasonable’ time—say 2 working days 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96440" y="6091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Is it applied?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entury Gothic"/>
              </a:rPr>
              <a:t>Toy ontologies are not useful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very ontology improves when it is applied to actual instances of dat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t improves even more when these data are used to answer research question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re will be fewer problems in the ontology and more commitment to fixing remaining problems when important research data is involved that scientists depend upo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Be very wary of ontologies that have never been applied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Work with that community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o improve (if you found one)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o develop (if you did not)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ff00"/>
                </a:solidFill>
                <a:latin typeface="Century Gothic"/>
              </a:rPr>
              <a:t>How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3" name=""/>
          <p:cNvSpPr/>
          <p:nvPr/>
        </p:nvSpPr>
        <p:spPr>
          <a:xfrm>
            <a:off x="6400800" y="3051720"/>
            <a:ext cx="1752480" cy="58140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mpro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081840" y="4680360"/>
            <a:ext cx="2390760" cy="106884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llaborate and Lea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3" idx="2"/>
            <a:endCxn id="544" idx="0"/>
          </p:cNvCxnSpPr>
          <p:nvPr/>
        </p:nvCxnSpPr>
        <p:spPr>
          <a:xfrm flipV="1" rot="10800000">
            <a:off x="7276320" y="3636720"/>
            <a:ext cx="1080" cy="1040400"/>
          </a:xfrm>
          <a:prstGeom prst="bent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46" name=""/>
          <p:cNvCxnSpPr>
            <a:stCxn id="544" idx="2"/>
            <a:endCxn id="543" idx="1"/>
          </p:cNvCxnSpPr>
          <p:nvPr/>
        </p:nvCxnSpPr>
        <p:spPr>
          <a:xfrm flipV="1" rot="16200000">
            <a:off x="5633640" y="4109400"/>
            <a:ext cx="2410560" cy="876960"/>
          </a:xfrm>
          <a:prstGeom prst="bentConnector4">
            <a:avLst>
              <a:gd name="adj1" fmla="val -25556"/>
              <a:gd name="adj2" fmla="val 263203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Community vs. Committee ?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Many people have (understandably) reservations about collaborative development, because it can easily be confused with design-by-committee projects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Members of a committee represent themselves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Members of a community represent their community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Design for purpose - not in abstract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Who will use it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If no one is interested, then go back to bed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What will they use it for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Define the domain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Who will maintain it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Be pragmatic and modes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864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Start with a concrete proposal —not a blank slate.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But do not commit your ego to it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Distribute to a small group you respect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ith a shared commitment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ith broad domain knowledge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ho will engage in vigorous debate without engaging their egos (or, at least not too much)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ho will do concrete work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Step 1: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lpha0: the first proposal - broad in breadth but shallow in depth. By one person with broad domain knowledge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Distribute to a small group (&lt;6)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Get together for two days and engage in vigorous discussion. Be open and frank. Argue, but do not be dogmatic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Reiterate over a period of months. Do as much as possible face-to-face, rather than by phone/email. Meet for 2 days every 3 months or so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Step 2: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Distribute Alpha1 to your group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18960" indent="-31896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ll now test this Alpha1 in real lif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690840" indent="-265680"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By classifying representations of instances with these typ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8960" indent="-31896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Do not worry that (at this stage) you if do not have tools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Step 3: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Reconvene as a group for two days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hare experiences from implementation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698400" indent="-268560"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an your Alpha1 be implemented in a useful way 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698400" indent="-268560"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What are the conceptual problems 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698400" indent="-268560"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What are the structural problems 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34880" y="5029200"/>
            <a:ext cx="82724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Microarray data from Figure 2K of Eisen et al. (1998).  Cluster analysis and display of genome-wide expression patterns, </a:t>
            </a:r>
            <a:r>
              <a:rPr b="0" i="1" lang="en-US" sz="1800" spc="-1" strike="noStrike">
                <a:solidFill>
                  <a:srgbClr val="ffffff"/>
                </a:solidFill>
                <a:latin typeface="Century Gothic"/>
              </a:rPr>
              <a:t>Proc. Natl. Acad. Sci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. </a:t>
            </a: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95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(25): 14863-14868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44600" y="1295280"/>
            <a:ext cx="1155600" cy="7621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18800"/>
            <a:ext cx="91440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Annotation of Yeast Microarray Clusters Using GO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990720" y="2209680"/>
          <a:ext cx="8153280" cy="4587840"/>
        </p:xfrm>
        <a:graphic>
          <a:graphicData uri="http://schemas.openxmlformats.org/drawingml/2006/table">
            <a:tbl>
              <a:tblPr/>
              <a:tblGrid>
                <a:gridCol w="761760"/>
                <a:gridCol w="2133720"/>
                <a:gridCol w="2743200"/>
                <a:gridCol w="2514600"/>
              </a:tblGrid>
              <a:tr h="1828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GEN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PROCES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FUN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CELLULAR COMPON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58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4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SDH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4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tricarboxylic acid cycl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4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succinate dehydrogenas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4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mitochondrial inner membran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NDI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oxidative phosphoryla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NADH dehydrogenas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mitochondrial inner membran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QCR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electron transpor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ubiquinol--cytochrome-c reductas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mitochondrial inner membran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COX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oxidative phosphoryla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cytochrome-c oxidas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mitochondrial inner membran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RIP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electron transpor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Rieske Fe-S protei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mitochondrial inner membran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COX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oxidative phosphoryla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cytochrome-c oxidas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mitochondrial inner membran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CYT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electron transpor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cytochrome-c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mitochondrial inner membran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COR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electron transpor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ubiquinol--cytochrome-c reductas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mitochondrial inner membran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SDH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tricarboxylic acid cycl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succinate dehydrogenase subuni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mitochondrial inner membran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SDH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tricarboxylic acid cycl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succinate dehydrogenase subuni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mitochondrial inner membran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SDH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tricarboxylic acid cycl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succinate dehydrogenase subuni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mitochondrial inner membran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MDH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tricarboxylic acid cycl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malate dehydrogenas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mitochondrial matri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QCR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electron transpor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ubiquinol--cytochrome-c reductas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mitochondrial inner membran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CYT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electron transpor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cytochrome-c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mitochondrial inner membran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2951280" y="2495520"/>
          <a:ext cx="3078000" cy="19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51280" y="2495520"/>
                    <a:ext cx="3078000" cy="1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2951280" y="2828880"/>
          <a:ext cx="3243240" cy="1476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51280" y="2828880"/>
                    <a:ext cx="3243240" cy="14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3206880" y="2552760"/>
            <a:ext cx="139680" cy="0"/>
          </a:xfrm>
          <a:prstGeom prst="line">
            <a:avLst/>
          </a:prstGeom>
          <a:ln w="12600">
            <a:solidFill>
              <a:srgbClr val="4141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06880" y="4029120"/>
            <a:ext cx="139680" cy="0"/>
          </a:xfrm>
          <a:prstGeom prst="line">
            <a:avLst/>
          </a:prstGeom>
          <a:ln w="12600">
            <a:solidFill>
              <a:srgbClr val="4141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867280" y="2590920"/>
            <a:ext cx="457200" cy="1981080"/>
          </a:xfrm>
          <a:prstGeom prst="ellipse">
            <a:avLst/>
          </a:prstGeom>
          <a:noFill/>
          <a:ln w="572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Step 4: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Establish a mechanism for change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Use CVS or Subversion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Limit the number of editors with write permission (ideally to one person)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Unique stable identifier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History tracking of chang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Release a Beta1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eriously implement Beta1 in real life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Build the ontology in depth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Step 5: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fter about 6 months reconvene and evaluate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Is the ontology suited to its purpose 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Is it, in practice, usable 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re we happy about its broad structure and content 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Step 6: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Go public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Release ontology to community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Release the products of the annotations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Invite broad community input and establish a mechanism for this (e.g. SourceForge)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Step 7: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Proselytiz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ublish in  a high profile journa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Engage new user group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Emphasize opennes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Write a gran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Step 8: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terat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mprovements come in two form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It is impossible to get it right the 1st (or 2nd, or 3rd, …) time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What we know about reality is continually growin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4969800" y="2689560"/>
            <a:ext cx="3502800" cy="3317400"/>
            <a:chOff x="4969800" y="2689560"/>
            <a:chExt cx="3502800" cy="3317400"/>
          </a:xfrm>
        </p:grpSpPr>
        <p:sp>
          <p:nvSpPr>
            <p:cNvPr id="570" name=""/>
            <p:cNvSpPr/>
            <p:nvPr/>
          </p:nvSpPr>
          <p:spPr>
            <a:xfrm>
              <a:off x="6400800" y="2689560"/>
              <a:ext cx="1752480" cy="581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Improv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081840" y="4318200"/>
              <a:ext cx="2390760" cy="1068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Collaborate and Learn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72" name=""/>
            <p:cNvCxnSpPr>
              <a:stCxn id="570" idx="2"/>
              <a:endCxn id="571" idx="0"/>
            </p:cNvCxnSpPr>
            <p:nvPr/>
          </p:nvCxnSpPr>
          <p:spPr>
            <a:xfrm flipV="1" rot="10800000">
              <a:off x="7276320" y="3274560"/>
              <a:ext cx="1080" cy="104040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73" name=""/>
            <p:cNvCxnSpPr>
              <a:stCxn id="571" idx="2"/>
              <a:endCxn id="570" idx="1"/>
            </p:cNvCxnSpPr>
            <p:nvPr/>
          </p:nvCxnSpPr>
          <p:spPr>
            <a:xfrm flipV="1" rot="16200000">
              <a:off x="5633640" y="3747240"/>
              <a:ext cx="2410560" cy="876960"/>
            </a:xfrm>
            <a:prstGeom prst="bentConnector4">
              <a:avLst>
                <a:gd name="adj1" fmla="val -25556"/>
                <a:gd name="adj2" fmla="val 263203"/>
              </a:avLst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Step 9: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374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ffff"/>
                </a:solidFill>
                <a:latin typeface="Bradley Hand ITC TT-Bold"/>
              </a:rPr>
              <a:t>Bon appetit</a:t>
            </a:r>
            <a:endParaRPr b="0" lang="en-US" sz="7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15560" y="609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Use the power of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combination and collaboration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s far as possible don’t reinven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35880" indent="-3358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ontologies are like telephones: they are valuable only to the degree that they are used and networked with other ontologi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35880" indent="-3358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but choose working telephon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35880" indent="-3358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most telephones were broken when the technology was first being developed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96696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The National Center for Biomedical Ontology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tanford – Berkeley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Mayo – Victoria – Buffalo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UCSF – Oregon – Cambridg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94760" cy="714060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/>
          <p:nvPr/>
        </p:nvSpPr>
        <p:spPr>
          <a:xfrm>
            <a:off x="1981080" y="3048120"/>
            <a:ext cx="2667240" cy="685800"/>
          </a:xfrm>
          <a:prstGeom prst="ellipse">
            <a:avLst/>
          </a:prstGeom>
          <a:noFill/>
          <a:ln w="7632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-2449800" y="3021480"/>
            <a:ext cx="14048280" cy="821880"/>
          </a:xfrm>
          <a:prstGeom prst="ellipse">
            <a:avLst/>
          </a:prstGeom>
          <a:noFill/>
          <a:ln w="7632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9ea8"/>
                </a:solidFill>
                <a:latin typeface="Century Gothic"/>
              </a:rPr>
              <a:t>Bioinformatics and Computational B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National Centers for Biomedical Computing—2005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799"/>
              </a:spcBef>
              <a:buClr>
                <a:srgbClr val="66ffcc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National Center for Integrative Biomedical Informatics (Michigan)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591120" indent="-591120">
              <a:spcBef>
                <a:spcPts val="799"/>
              </a:spcBef>
              <a:buClr>
                <a:srgbClr val="66ffcc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National Center for Multi-Scale Study of Cellular Networks (Columbia)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591120" indent="-591120">
              <a:spcBef>
                <a:spcPts val="799"/>
              </a:spcBef>
              <a:buClr>
                <a:srgbClr val="66ffcc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National Center for Biomedical Ontology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6T18:01:42Z</dcterms:created>
  <dc:creator>Suzanna Lewis</dc:creator>
  <dc:description/>
  <dc:language>en-US</dc:language>
  <cp:lastModifiedBy>Suzanna Lewis</cp:lastModifiedBy>
  <dcterms:modified xsi:type="dcterms:W3CDTF">2006-04-20T18:55:34Z</dcterms:modified>
  <cp:revision>167</cp:revision>
  <dc:subject/>
  <dc:title>The Joy of Ontology</dc:title>
</cp:coreProperties>
</file>